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1.png" ContentType="image/png"/>
  <Override PartName="/ppt/media/image19.pct" ContentType="image/x-pict"/>
  <Override PartName="/ppt/media/image16.jpeg" ContentType="image/jpeg"/>
  <Override PartName="/ppt/media/image17.jpeg" ContentType="image/jpeg"/>
  <Override PartName="/ppt/media/image14.pct" ContentType="image/x-pict"/>
  <Override PartName="/ppt/media/image18.pct" ContentType="image/x-pict"/>
  <Override PartName="/ppt/media/image1.jpeg" ContentType="image/jpeg"/>
  <Override PartName="/ppt/media/image3.jpeg" ContentType="image/jpeg"/>
  <Override PartName="/ppt/media/image4.png" ContentType="image/png"/>
  <Override PartName="/ppt/media/image15.pct" ContentType="image/x-pict"/>
  <Override PartName="/ppt/media/image6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288588" cy="6858000"/>
  <p:notesSz cx="7037388" cy="872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533520"/>
            <a:ext cx="75438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670800"/>
            <a:ext cx="7772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6440400"/>
            <a:ext cx="74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Osaka"/>
              </a:rPr>
              <a:t>CXC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4480" y="76320"/>
            <a:ext cx="990360" cy="5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rwchandra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39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ndra X-ray Observatory Oper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066680" y="762120"/>
            <a:ext cx="7695000" cy="5642640"/>
            <a:chOff x="1066680" y="762120"/>
            <a:chExt cx="7695000" cy="5642640"/>
          </a:xfrm>
        </p:grpSpPr>
        <p:grpSp>
          <p:nvGrpSpPr>
            <p:cNvPr id="93" name=""/>
            <p:cNvGrpSpPr/>
            <p:nvPr/>
          </p:nvGrpSpPr>
          <p:grpSpPr>
            <a:xfrm>
              <a:off x="1066680" y="838080"/>
              <a:ext cx="7695000" cy="5566680"/>
              <a:chOff x="1066680" y="838080"/>
              <a:chExt cx="7695000" cy="55666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3703680" y="5666400"/>
                <a:ext cx="464760" cy="519120"/>
                <a:chOff x="3703680" y="5666400"/>
                <a:chExt cx="464760" cy="519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03680" y="5745960"/>
                  <a:ext cx="432720" cy="439560"/>
                </a:xfrm>
                <a:custGeom>
                  <a:avLst/>
                  <a:gdLst/>
                  <a:ahLst/>
                  <a:rect l="l" t="t" r="r" b="b"/>
                  <a:pathLst>
                    <a:path w="255" h="243">
                      <a:moveTo>
                        <a:pt x="0" y="243"/>
                      </a:moveTo>
                      <a:lnTo>
                        <a:pt x="255" y="243"/>
                      </a:lnTo>
                      <a:lnTo>
                        <a:pt x="25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126320" y="5666400"/>
                  <a:ext cx="42120" cy="795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12" y="0"/>
                      </a:moveTo>
                      <a:lnTo>
                        <a:pt x="25" y="44"/>
                      </a:lnTo>
                      <a:lnTo>
                        <a:pt x="12" y="44"/>
                      </a:lnTo>
                      <a:lnTo>
                        <a:pt x="0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6633000" y="2289960"/>
                <a:ext cx="1716120" cy="37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66680" y="2232000"/>
                <a:ext cx="1766880" cy="34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46440" y="1585800"/>
                <a:ext cx="348120" cy="51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2432520" y="1909800"/>
                <a:ext cx="1997640" cy="437400"/>
                <a:chOff x="2432520" y="1909800"/>
                <a:chExt cx="1997640" cy="437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432520" y="1909800"/>
                  <a:ext cx="76320" cy="4500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45" y="12"/>
                      </a:lnTo>
                      <a:lnTo>
                        <a:pt x="38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354200" y="2302200"/>
                  <a:ext cx="75960" cy="4500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45" y="19"/>
                      </a:move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6" y="0"/>
                      </a:lnTo>
                      <a:lnTo>
                        <a:pt x="45" y="1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08840" y="1931400"/>
                  <a:ext cx="1845000" cy="39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281320" y="1145880"/>
                <a:ext cx="1713600" cy="565920"/>
                <a:chOff x="2281320" y="1145880"/>
                <a:chExt cx="1713600" cy="5659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281320" y="1666800"/>
                  <a:ext cx="74520" cy="45000"/>
                </a:xfrm>
                <a:custGeom>
                  <a:avLst/>
                  <a:gdLst/>
                  <a:ahLst/>
                  <a:rect l="l" t="t" r="r" b="b"/>
                  <a:pathLst>
                    <a:path w="44" h="25">
                      <a:moveTo>
                        <a:pt x="0" y="25"/>
                      </a:moveTo>
                      <a:lnTo>
                        <a:pt x="38" y="0"/>
                      </a:lnTo>
                      <a:lnTo>
                        <a:pt x="44" y="12"/>
                      </a:lnTo>
                      <a:lnTo>
                        <a:pt x="44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18960" y="1145880"/>
                  <a:ext cx="75960" cy="471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45" y="0"/>
                      </a:moveTo>
                      <a:lnTo>
                        <a:pt x="7" y="26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2355840" y="1168920"/>
                  <a:ext cx="15627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981120" y="1701720"/>
                <a:ext cx="313200" cy="483840"/>
                <a:chOff x="6981120" y="1701720"/>
                <a:chExt cx="313200" cy="4838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6981120" y="1712160"/>
                  <a:ext cx="313200" cy="473400"/>
                  <a:chOff x="6981120" y="1712160"/>
                  <a:chExt cx="313200" cy="47340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153920" y="1978200"/>
                    <a:ext cx="31320" cy="67680"/>
                    <a:chOff x="7153920" y="1978200"/>
                    <a:chExt cx="31320" cy="67680"/>
                  </a:xfrm>
                </p:grpSpPr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7153920" y="1978200"/>
                      <a:ext cx="31320" cy="67680"/>
                      <a:chOff x="7153920" y="1978200"/>
                      <a:chExt cx="31320" cy="6768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7163640" y="1988640"/>
                        <a:ext cx="21600" cy="57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7153920" y="1978200"/>
                        <a:ext cx="21240" cy="572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175520" y="1988640"/>
                      <a:ext cx="1800" cy="4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7186320" y="1943640"/>
                    <a:ext cx="43200" cy="102240"/>
                    <a:chOff x="7186320" y="1943640"/>
                    <a:chExt cx="43200" cy="1022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197840" y="1954080"/>
                      <a:ext cx="31680" cy="9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186320" y="1943640"/>
                      <a:ext cx="32040" cy="918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7077960" y="1967040"/>
                    <a:ext cx="21600" cy="21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121880" y="1931040"/>
                    <a:ext cx="31680" cy="22680"/>
                    <a:chOff x="7121880" y="1931040"/>
                    <a:chExt cx="31680" cy="2268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131960" y="1931040"/>
                      <a:ext cx="216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3" y="13"/>
                          </a:lnTo>
                          <a:lnTo>
                            <a:pt x="0" y="13"/>
                          </a:lnTo>
                          <a:lnTo>
                            <a:pt x="0" y="7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121880" y="1931040"/>
                      <a:ext cx="219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6" y="0"/>
                          </a:moveTo>
                          <a:lnTo>
                            <a:pt x="13" y="13"/>
                          </a:lnTo>
                          <a:lnTo>
                            <a:pt x="6" y="13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7099920" y="2046600"/>
                    <a:ext cx="75600" cy="22680"/>
                    <a:chOff x="7099920" y="2046600"/>
                    <a:chExt cx="75600" cy="2268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109640" y="2046600"/>
                      <a:ext cx="65880" cy="2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7099920" y="2046600"/>
                      <a:ext cx="75600" cy="22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7198200" y="1816920"/>
                    <a:ext cx="31320" cy="44640"/>
                    <a:chOff x="7198200" y="1816920"/>
                    <a:chExt cx="31320" cy="4464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7198200" y="1816920"/>
                      <a:ext cx="313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5">
                          <a:moveTo>
                            <a:pt x="0" y="0"/>
                          </a:moveTo>
                          <a:lnTo>
                            <a:pt x="19" y="19"/>
                          </a:lnTo>
                          <a:lnTo>
                            <a:pt x="19" y="25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7198200" y="1816920"/>
                      <a:ext cx="201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9">
                          <a:moveTo>
                            <a:pt x="0" y="0"/>
                          </a:moveTo>
                          <a:lnTo>
                            <a:pt x="12" y="12"/>
                          </a:lnTo>
                          <a:lnTo>
                            <a:pt x="12" y="19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186320" y="1712160"/>
                    <a:ext cx="53280" cy="334080"/>
                    <a:chOff x="7186320" y="1712160"/>
                    <a:chExt cx="53280" cy="33408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197840" y="1724760"/>
                      <a:ext cx="41760" cy="32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8">
                          <a:moveTo>
                            <a:pt x="0" y="0"/>
                          </a:moveTo>
                          <a:lnTo>
                            <a:pt x="25" y="6"/>
                          </a:lnTo>
                          <a:lnTo>
                            <a:pt x="25" y="178"/>
                          </a:lnTo>
                          <a:lnTo>
                            <a:pt x="19" y="178"/>
                          </a:lnTo>
                          <a:lnTo>
                            <a:pt x="19" y="25"/>
                          </a:lnTo>
                          <a:lnTo>
                            <a:pt x="0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186320" y="1712160"/>
                      <a:ext cx="4356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79">
                          <a:moveTo>
                            <a:pt x="0" y="0"/>
                          </a:moveTo>
                          <a:lnTo>
                            <a:pt x="26" y="13"/>
                          </a:lnTo>
                          <a:lnTo>
                            <a:pt x="26" y="179"/>
                          </a:lnTo>
                          <a:lnTo>
                            <a:pt x="19" y="179"/>
                          </a:lnTo>
                          <a:lnTo>
                            <a:pt x="19" y="26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6981120" y="2035800"/>
                    <a:ext cx="259200" cy="80640"/>
                    <a:chOff x="6981120" y="2035800"/>
                    <a:chExt cx="259200" cy="80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991200" y="2046240"/>
                      <a:ext cx="24912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9">
                          <a:moveTo>
                            <a:pt x="147" y="39"/>
                          </a:moveTo>
                          <a:lnTo>
                            <a:pt x="147" y="0"/>
                          </a:lnTo>
                          <a:lnTo>
                            <a:pt x="115" y="0"/>
                          </a:lnTo>
                          <a:lnTo>
                            <a:pt x="109" y="7"/>
                          </a:lnTo>
                          <a:lnTo>
                            <a:pt x="90" y="7"/>
                          </a:lnTo>
                          <a:lnTo>
                            <a:pt x="83" y="13"/>
                          </a:lnTo>
                          <a:lnTo>
                            <a:pt x="19" y="13"/>
                          </a:lnTo>
                          <a:lnTo>
                            <a:pt x="19" y="26"/>
                          </a:lnTo>
                          <a:lnTo>
                            <a:pt x="0" y="26"/>
                          </a:lnTo>
                          <a:lnTo>
                            <a:pt x="0" y="39"/>
                          </a:lnTo>
                          <a:lnTo>
                            <a:pt x="147" y="39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81120" y="2035800"/>
                      <a:ext cx="2491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8">
                          <a:moveTo>
                            <a:pt x="147" y="38"/>
                          </a:moveTo>
                          <a:lnTo>
                            <a:pt x="147" y="0"/>
                          </a:lnTo>
                          <a:lnTo>
                            <a:pt x="115" y="0"/>
                          </a:lnTo>
                          <a:lnTo>
                            <a:pt x="108" y="6"/>
                          </a:lnTo>
                          <a:lnTo>
                            <a:pt x="89" y="6"/>
                          </a:lnTo>
                          <a:lnTo>
                            <a:pt x="83" y="13"/>
                          </a:lnTo>
                          <a:lnTo>
                            <a:pt x="19" y="13"/>
                          </a:lnTo>
                          <a:lnTo>
                            <a:pt x="19" y="25"/>
                          </a:lnTo>
                          <a:lnTo>
                            <a:pt x="0" y="25"/>
                          </a:lnTo>
                          <a:lnTo>
                            <a:pt x="0" y="38"/>
                          </a:lnTo>
                          <a:lnTo>
                            <a:pt x="147" y="38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7045560" y="2081160"/>
                    <a:ext cx="194400" cy="35640"/>
                    <a:chOff x="7045560" y="2081160"/>
                    <a:chExt cx="194400" cy="3564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7057440" y="2093760"/>
                      <a:ext cx="18252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7045560" y="2081160"/>
                      <a:ext cx="18432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7240680" y="1943640"/>
                    <a:ext cx="1440" cy="45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7230240" y="1978200"/>
                    <a:ext cx="21600" cy="33480"/>
                    <a:chOff x="7230240" y="1978200"/>
                    <a:chExt cx="21600" cy="3348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230240" y="1988640"/>
                      <a:ext cx="21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13" y="13"/>
                          </a:moveTo>
                          <a:lnTo>
                            <a:pt x="13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3" y="0"/>
                          </a:lnTo>
                          <a:lnTo>
                            <a:pt x="13" y="13"/>
                          </a:lnTo>
                          <a:lnTo>
                            <a:pt x="13" y="13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230240" y="1978200"/>
                      <a:ext cx="21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13" y="13"/>
                          </a:moveTo>
                          <a:lnTo>
                            <a:pt x="13" y="0"/>
                          </a:lnTo>
                          <a:lnTo>
                            <a:pt x="0" y="0"/>
                          </a:lnTo>
                          <a:lnTo>
                            <a:pt x="0" y="6"/>
                          </a:lnTo>
                          <a:lnTo>
                            <a:pt x="6" y="6"/>
                          </a:lnTo>
                          <a:lnTo>
                            <a:pt x="6" y="13"/>
                          </a:lnTo>
                          <a:lnTo>
                            <a:pt x="13" y="13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099920" y="1967040"/>
                    <a:ext cx="63720" cy="91800"/>
                    <a:chOff x="7099920" y="1967040"/>
                    <a:chExt cx="63720" cy="9180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109640" y="1967040"/>
                      <a:ext cx="540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1">
                          <a:moveTo>
                            <a:pt x="32" y="0"/>
                          </a:moveTo>
                          <a:lnTo>
                            <a:pt x="0" y="51"/>
                          </a:lnTo>
                          <a:lnTo>
                            <a:pt x="0" y="51"/>
                          </a:lnTo>
                          <a:lnTo>
                            <a:pt x="32" y="6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099920" y="1967040"/>
                      <a:ext cx="5400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44">
                          <a:moveTo>
                            <a:pt x="32" y="0"/>
                          </a:moveTo>
                          <a:lnTo>
                            <a:pt x="0" y="44"/>
                          </a:lnTo>
                          <a:lnTo>
                            <a:pt x="6" y="44"/>
                          </a:lnTo>
                          <a:lnTo>
                            <a:pt x="32" y="6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7230240" y="2012040"/>
                    <a:ext cx="54000" cy="104400"/>
                    <a:chOff x="7230240" y="2012040"/>
                    <a:chExt cx="54000" cy="10440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240320" y="2024640"/>
                      <a:ext cx="4392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1">
                          <a:moveTo>
                            <a:pt x="7" y="0"/>
                          </a:moveTo>
                          <a:lnTo>
                            <a:pt x="26" y="19"/>
                          </a:lnTo>
                          <a:lnTo>
                            <a:pt x="26" y="51"/>
                          </a:lnTo>
                          <a:lnTo>
                            <a:pt x="0" y="51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230240" y="2012040"/>
                      <a:ext cx="4212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1">
                          <a:moveTo>
                            <a:pt x="6" y="0"/>
                          </a:moveTo>
                          <a:lnTo>
                            <a:pt x="25" y="19"/>
                          </a:lnTo>
                          <a:lnTo>
                            <a:pt x="25" y="51"/>
                          </a:lnTo>
                          <a:lnTo>
                            <a:pt x="0" y="51"/>
                          </a:lnTo>
                          <a:lnTo>
                            <a:pt x="0" y="1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6981120" y="2151720"/>
                    <a:ext cx="313200" cy="33840"/>
                    <a:chOff x="6981120" y="2151720"/>
                    <a:chExt cx="313200" cy="3384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91200" y="2162160"/>
                      <a:ext cx="303120" cy="2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1120" y="2151720"/>
                      <a:ext cx="30348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981120" y="2128320"/>
                    <a:ext cx="313200" cy="33480"/>
                    <a:chOff x="6981120" y="2128320"/>
                    <a:chExt cx="313200" cy="3348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91200" y="2138760"/>
                      <a:ext cx="30312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981120" y="2128320"/>
                      <a:ext cx="30348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6981120" y="2104560"/>
                    <a:ext cx="313200" cy="33840"/>
                    <a:chOff x="6981120" y="2104560"/>
                    <a:chExt cx="313200" cy="33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991200" y="2117160"/>
                      <a:ext cx="303120" cy="2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981120" y="2104560"/>
                      <a:ext cx="303480" cy="23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6991200" y="2093760"/>
                    <a:ext cx="31680" cy="230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240680" y="2012040"/>
                    <a:ext cx="32040" cy="34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7153920" y="1954440"/>
                    <a:ext cx="31680" cy="33840"/>
                    <a:chOff x="7153920" y="1954440"/>
                    <a:chExt cx="31680" cy="33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163640" y="1967040"/>
                      <a:ext cx="21960" cy="2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153920" y="1954440"/>
                      <a:ext cx="21600" cy="23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7099920" y="1943640"/>
                    <a:ext cx="97920" cy="102240"/>
                    <a:chOff x="7099920" y="1943640"/>
                    <a:chExt cx="97920" cy="10224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09640" y="1954080"/>
                      <a:ext cx="882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1">
                          <a:moveTo>
                            <a:pt x="45" y="51"/>
                          </a:moveTo>
                          <a:lnTo>
                            <a:pt x="45" y="7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lnTo>
                            <a:pt x="52" y="0"/>
                          </a:lnTo>
                          <a:lnTo>
                            <a:pt x="52" y="51"/>
                          </a:lnTo>
                          <a:lnTo>
                            <a:pt x="45" y="51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7099920" y="1943640"/>
                      <a:ext cx="8604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45" y="51"/>
                          </a:moveTo>
                          <a:lnTo>
                            <a:pt x="45" y="6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lnTo>
                            <a:pt x="51" y="0"/>
                          </a:lnTo>
                          <a:lnTo>
                            <a:pt x="51" y="51"/>
                          </a:lnTo>
                          <a:lnTo>
                            <a:pt x="45" y="51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164000" y="1861920"/>
                    <a:ext cx="108360" cy="104400"/>
                    <a:chOff x="7164000" y="1861920"/>
                    <a:chExt cx="108360" cy="10440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164000" y="1861920"/>
                      <a:ext cx="108360" cy="10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175880" y="1861920"/>
                      <a:ext cx="96480" cy="10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7186320" y="2035800"/>
                    <a:ext cx="42840" cy="101880"/>
                    <a:chOff x="7186320" y="2035800"/>
                    <a:chExt cx="42840" cy="101880"/>
                  </a:xfrm>
                </p:grpSpPr>
                <p:grpSp>
                  <p:nvGrpSpPr>
                    <p:cNvPr id="168" name=""/>
                    <p:cNvGrpSpPr/>
                    <p:nvPr/>
                  </p:nvGrpSpPr>
                  <p:grpSpPr>
                    <a:xfrm>
                      <a:off x="7186320" y="2035800"/>
                      <a:ext cx="42840" cy="101880"/>
                      <a:chOff x="7186320" y="2035800"/>
                      <a:chExt cx="42840" cy="101880"/>
                    </a:xfrm>
                  </p:grpSpPr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7197840" y="2046240"/>
                        <a:ext cx="3132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7186320" y="2035800"/>
                        <a:ext cx="31680" cy="914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7197480" y="2046240"/>
                      <a:ext cx="31320" cy="71640"/>
                      <a:chOff x="7197480" y="2046240"/>
                      <a:chExt cx="31320" cy="716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H="1">
                        <a:off x="7197480" y="205884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 flipH="1">
                        <a:off x="7197480" y="20926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 flipH="1">
                        <a:off x="7197480" y="20800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 flipH="1">
                        <a:off x="7197480" y="206928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 flipH="1">
                        <a:off x="7197480" y="204624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 flipH="1">
                        <a:off x="7197480" y="210348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 flipH="1">
                        <a:off x="7197480" y="211608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6991200" y="2059200"/>
                    <a:ext cx="31320" cy="33840"/>
                    <a:chOff x="6991200" y="2059200"/>
                    <a:chExt cx="31320" cy="3384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002720" y="2069640"/>
                      <a:ext cx="19800" cy="2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6991200" y="2059200"/>
                      <a:ext cx="21600" cy="212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045560" y="1804680"/>
                  <a:ext cx="63360" cy="69480"/>
                  <a:chOff x="7045560" y="1804680"/>
                  <a:chExt cx="63360" cy="6948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7045560" y="1817280"/>
                    <a:ext cx="31680" cy="56880"/>
                    <a:chOff x="7045560" y="1817280"/>
                    <a:chExt cx="31680" cy="568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057080" y="1828080"/>
                      <a:ext cx="20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6">
                          <a:moveTo>
                            <a:pt x="0" y="0"/>
                          </a:moveTo>
                          <a:lnTo>
                            <a:pt x="12" y="19"/>
                          </a:lnTo>
                          <a:lnTo>
                            <a:pt x="12" y="26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045560" y="1817280"/>
                      <a:ext cx="316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5">
                          <a:moveTo>
                            <a:pt x="7" y="0"/>
                          </a:moveTo>
                          <a:lnTo>
                            <a:pt x="19" y="25"/>
                          </a:lnTo>
                          <a:lnTo>
                            <a:pt x="13" y="25"/>
                          </a:lnTo>
                          <a:lnTo>
                            <a:pt x="0" y="6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7057440" y="1804680"/>
                    <a:ext cx="51480" cy="23040"/>
                    <a:chOff x="7057440" y="1804680"/>
                    <a:chExt cx="51480" cy="23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057440" y="1804680"/>
                      <a:ext cx="514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3">
                          <a:moveTo>
                            <a:pt x="6" y="0"/>
                          </a:moveTo>
                          <a:lnTo>
                            <a:pt x="31" y="13"/>
                          </a:lnTo>
                          <a:lnTo>
                            <a:pt x="25" y="13"/>
                          </a:lnTo>
                          <a:lnTo>
                            <a:pt x="0" y="7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057440" y="1804680"/>
                      <a:ext cx="417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3">
                          <a:moveTo>
                            <a:pt x="0" y="0"/>
                          </a:moveTo>
                          <a:lnTo>
                            <a:pt x="25" y="7"/>
                          </a:lnTo>
                          <a:lnTo>
                            <a:pt x="25" y="13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35120" y="1701720"/>
                  <a:ext cx="182880" cy="299520"/>
                  <a:chOff x="7035120" y="1701720"/>
                  <a:chExt cx="182880" cy="29952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035120" y="1701720"/>
                    <a:ext cx="182880" cy="299520"/>
                    <a:chOff x="7035120" y="1701720"/>
                    <a:chExt cx="182880" cy="29952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035120" y="1701720"/>
                      <a:ext cx="18288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66">
                          <a:moveTo>
                            <a:pt x="102" y="6"/>
                          </a:moveTo>
                          <a:lnTo>
                            <a:pt x="108" y="13"/>
                          </a:lnTo>
                          <a:lnTo>
                            <a:pt x="108" y="19"/>
                          </a:lnTo>
                          <a:lnTo>
                            <a:pt x="108" y="25"/>
                          </a:lnTo>
                          <a:lnTo>
                            <a:pt x="108" y="32"/>
                          </a:lnTo>
                          <a:lnTo>
                            <a:pt x="108" y="38"/>
                          </a:lnTo>
                          <a:lnTo>
                            <a:pt x="108" y="51"/>
                          </a:lnTo>
                          <a:lnTo>
                            <a:pt x="102" y="64"/>
                          </a:lnTo>
                          <a:lnTo>
                            <a:pt x="102" y="76"/>
                          </a:lnTo>
                          <a:lnTo>
                            <a:pt x="96" y="89"/>
                          </a:lnTo>
                          <a:lnTo>
                            <a:pt x="83" y="102"/>
                          </a:lnTo>
                          <a:lnTo>
                            <a:pt x="76" y="121"/>
                          </a:lnTo>
                          <a:lnTo>
                            <a:pt x="64" y="127"/>
                          </a:lnTo>
                          <a:lnTo>
                            <a:pt x="57" y="140"/>
                          </a:lnTo>
                          <a:lnTo>
                            <a:pt x="44" y="147"/>
                          </a:lnTo>
                          <a:lnTo>
                            <a:pt x="32" y="159"/>
                          </a:lnTo>
                          <a:lnTo>
                            <a:pt x="25" y="159"/>
                          </a:lnTo>
                          <a:lnTo>
                            <a:pt x="19" y="166"/>
                          </a:lnTo>
                          <a:lnTo>
                            <a:pt x="13" y="166"/>
                          </a:lnTo>
                          <a:lnTo>
                            <a:pt x="6" y="166"/>
                          </a:lnTo>
                          <a:lnTo>
                            <a:pt x="0" y="166"/>
                          </a:lnTo>
                          <a:lnTo>
                            <a:pt x="102" y="0"/>
                          </a:lnTo>
                          <a:lnTo>
                            <a:pt x="102" y="6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035120" y="1701720"/>
                      <a:ext cx="17280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66">
                          <a:moveTo>
                            <a:pt x="102" y="6"/>
                          </a:moveTo>
                          <a:lnTo>
                            <a:pt x="102" y="6"/>
                          </a:lnTo>
                          <a:lnTo>
                            <a:pt x="102" y="13"/>
                          </a:lnTo>
                          <a:lnTo>
                            <a:pt x="102" y="19"/>
                          </a:lnTo>
                          <a:lnTo>
                            <a:pt x="102" y="25"/>
                          </a:lnTo>
                          <a:lnTo>
                            <a:pt x="102" y="38"/>
                          </a:lnTo>
                          <a:lnTo>
                            <a:pt x="102" y="44"/>
                          </a:lnTo>
                          <a:lnTo>
                            <a:pt x="102" y="57"/>
                          </a:lnTo>
                          <a:lnTo>
                            <a:pt x="96" y="70"/>
                          </a:lnTo>
                          <a:lnTo>
                            <a:pt x="89" y="83"/>
                          </a:lnTo>
                          <a:lnTo>
                            <a:pt x="83" y="102"/>
                          </a:lnTo>
                          <a:lnTo>
                            <a:pt x="70" y="115"/>
                          </a:lnTo>
                          <a:lnTo>
                            <a:pt x="64" y="127"/>
                          </a:lnTo>
                          <a:lnTo>
                            <a:pt x="51" y="134"/>
                          </a:lnTo>
                          <a:lnTo>
                            <a:pt x="38" y="147"/>
                          </a:lnTo>
                          <a:lnTo>
                            <a:pt x="32" y="153"/>
                          </a:lnTo>
                          <a:lnTo>
                            <a:pt x="19" y="159"/>
                          </a:lnTo>
                          <a:lnTo>
                            <a:pt x="13" y="159"/>
                          </a:lnTo>
                          <a:lnTo>
                            <a:pt x="6" y="166"/>
                          </a:lnTo>
                          <a:lnTo>
                            <a:pt x="0" y="166"/>
                          </a:lnTo>
                          <a:lnTo>
                            <a:pt x="0" y="159"/>
                          </a:lnTo>
                          <a:lnTo>
                            <a:pt x="96" y="0"/>
                          </a:lnTo>
                          <a:lnTo>
                            <a:pt x="102" y="6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7035120" y="1701720"/>
                    <a:ext cx="172800" cy="299520"/>
                    <a:chOff x="7035120" y="1701720"/>
                    <a:chExt cx="172800" cy="29952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035120" y="1701720"/>
                      <a:ext cx="17280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66">
                          <a:moveTo>
                            <a:pt x="102" y="0"/>
                          </a:moveTo>
                          <a:lnTo>
                            <a:pt x="102" y="6"/>
                          </a:lnTo>
                          <a:lnTo>
                            <a:pt x="102" y="13"/>
                          </a:lnTo>
                          <a:lnTo>
                            <a:pt x="102" y="19"/>
                          </a:lnTo>
                          <a:lnTo>
                            <a:pt x="102" y="25"/>
                          </a:lnTo>
                          <a:lnTo>
                            <a:pt x="102" y="38"/>
                          </a:lnTo>
                          <a:lnTo>
                            <a:pt x="96" y="44"/>
                          </a:lnTo>
                          <a:lnTo>
                            <a:pt x="96" y="57"/>
                          </a:lnTo>
                          <a:lnTo>
                            <a:pt x="89" y="70"/>
                          </a:lnTo>
                          <a:lnTo>
                            <a:pt x="83" y="89"/>
                          </a:lnTo>
                          <a:lnTo>
                            <a:pt x="76" y="102"/>
                          </a:lnTo>
                          <a:lnTo>
                            <a:pt x="64" y="115"/>
                          </a:lnTo>
                          <a:lnTo>
                            <a:pt x="57" y="121"/>
                          </a:lnTo>
                          <a:lnTo>
                            <a:pt x="51" y="134"/>
                          </a:lnTo>
                          <a:lnTo>
                            <a:pt x="44" y="140"/>
                          </a:lnTo>
                          <a:lnTo>
                            <a:pt x="38" y="147"/>
                          </a:lnTo>
                          <a:lnTo>
                            <a:pt x="32" y="153"/>
                          </a:lnTo>
                          <a:lnTo>
                            <a:pt x="25" y="153"/>
                          </a:lnTo>
                          <a:lnTo>
                            <a:pt x="19" y="159"/>
                          </a:lnTo>
                          <a:lnTo>
                            <a:pt x="13" y="159"/>
                          </a:lnTo>
                          <a:lnTo>
                            <a:pt x="6" y="166"/>
                          </a:lnTo>
                          <a:lnTo>
                            <a:pt x="6" y="166"/>
                          </a:lnTo>
                          <a:lnTo>
                            <a:pt x="0" y="166"/>
                          </a:lnTo>
                          <a:lnTo>
                            <a:pt x="0" y="159"/>
                          </a:lnTo>
                          <a:lnTo>
                            <a:pt x="6" y="153"/>
                          </a:lnTo>
                          <a:lnTo>
                            <a:pt x="6" y="147"/>
                          </a:lnTo>
                          <a:lnTo>
                            <a:pt x="6" y="140"/>
                          </a:lnTo>
                          <a:lnTo>
                            <a:pt x="6" y="134"/>
                          </a:lnTo>
                          <a:lnTo>
                            <a:pt x="13" y="121"/>
                          </a:lnTo>
                          <a:lnTo>
                            <a:pt x="13" y="115"/>
                          </a:lnTo>
                          <a:lnTo>
                            <a:pt x="19" y="102"/>
                          </a:lnTo>
                          <a:lnTo>
                            <a:pt x="19" y="96"/>
                          </a:lnTo>
                          <a:lnTo>
                            <a:pt x="25" y="89"/>
                          </a:lnTo>
                          <a:lnTo>
                            <a:pt x="32" y="76"/>
                          </a:lnTo>
                          <a:lnTo>
                            <a:pt x="38" y="70"/>
                          </a:lnTo>
                          <a:lnTo>
                            <a:pt x="44" y="57"/>
                          </a:lnTo>
                          <a:lnTo>
                            <a:pt x="51" y="51"/>
                          </a:lnTo>
                          <a:lnTo>
                            <a:pt x="57" y="38"/>
                          </a:lnTo>
                          <a:lnTo>
                            <a:pt x="70" y="32"/>
                          </a:lnTo>
                          <a:lnTo>
                            <a:pt x="76" y="25"/>
                          </a:lnTo>
                          <a:lnTo>
                            <a:pt x="83" y="19"/>
                          </a:lnTo>
                          <a:lnTo>
                            <a:pt x="89" y="13"/>
                          </a:lnTo>
                          <a:lnTo>
                            <a:pt x="89" y="6"/>
                          </a:lnTo>
                          <a:lnTo>
                            <a:pt x="96" y="0"/>
                          </a:lnTo>
                          <a:lnTo>
                            <a:pt x="102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7035120" y="1701720"/>
                      <a:ext cx="163080" cy="28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59">
                          <a:moveTo>
                            <a:pt x="96" y="0"/>
                          </a:moveTo>
                          <a:lnTo>
                            <a:pt x="96" y="0"/>
                          </a:lnTo>
                          <a:lnTo>
                            <a:pt x="96" y="6"/>
                          </a:lnTo>
                          <a:lnTo>
                            <a:pt x="96" y="19"/>
                          </a:lnTo>
                          <a:lnTo>
                            <a:pt x="96" y="25"/>
                          </a:lnTo>
                          <a:lnTo>
                            <a:pt x="96" y="32"/>
                          </a:lnTo>
                          <a:lnTo>
                            <a:pt x="96" y="44"/>
                          </a:lnTo>
                          <a:lnTo>
                            <a:pt x="89" y="51"/>
                          </a:lnTo>
                          <a:lnTo>
                            <a:pt x="89" y="70"/>
                          </a:lnTo>
                          <a:lnTo>
                            <a:pt x="83" y="83"/>
                          </a:lnTo>
                          <a:lnTo>
                            <a:pt x="70" y="96"/>
                          </a:lnTo>
                          <a:lnTo>
                            <a:pt x="64" y="108"/>
                          </a:lnTo>
                          <a:lnTo>
                            <a:pt x="51" y="121"/>
                          </a:lnTo>
                          <a:lnTo>
                            <a:pt x="44" y="127"/>
                          </a:lnTo>
                          <a:lnTo>
                            <a:pt x="38" y="134"/>
                          </a:lnTo>
                          <a:lnTo>
                            <a:pt x="32" y="140"/>
                          </a:lnTo>
                          <a:lnTo>
                            <a:pt x="25" y="147"/>
                          </a:lnTo>
                          <a:lnTo>
                            <a:pt x="19" y="153"/>
                          </a:lnTo>
                          <a:lnTo>
                            <a:pt x="13" y="153"/>
                          </a:lnTo>
                          <a:lnTo>
                            <a:pt x="6" y="159"/>
                          </a:lnTo>
                          <a:lnTo>
                            <a:pt x="6" y="159"/>
                          </a:lnTo>
                          <a:lnTo>
                            <a:pt x="0" y="159"/>
                          </a:lnTo>
                          <a:lnTo>
                            <a:pt x="0" y="159"/>
                          </a:lnTo>
                          <a:lnTo>
                            <a:pt x="0" y="159"/>
                          </a:lnTo>
                          <a:lnTo>
                            <a:pt x="0" y="153"/>
                          </a:lnTo>
                          <a:lnTo>
                            <a:pt x="0" y="147"/>
                          </a:lnTo>
                          <a:lnTo>
                            <a:pt x="6" y="134"/>
                          </a:lnTo>
                          <a:lnTo>
                            <a:pt x="6" y="127"/>
                          </a:lnTo>
                          <a:lnTo>
                            <a:pt x="6" y="121"/>
                          </a:lnTo>
                          <a:lnTo>
                            <a:pt x="13" y="108"/>
                          </a:lnTo>
                          <a:lnTo>
                            <a:pt x="13" y="102"/>
                          </a:lnTo>
                          <a:lnTo>
                            <a:pt x="19" y="96"/>
                          </a:lnTo>
                          <a:lnTo>
                            <a:pt x="19" y="83"/>
                          </a:lnTo>
                          <a:lnTo>
                            <a:pt x="25" y="76"/>
                          </a:lnTo>
                          <a:lnTo>
                            <a:pt x="32" y="64"/>
                          </a:lnTo>
                          <a:lnTo>
                            <a:pt x="38" y="57"/>
                          </a:lnTo>
                          <a:lnTo>
                            <a:pt x="44" y="44"/>
                          </a:lnTo>
                          <a:lnTo>
                            <a:pt x="57" y="38"/>
                          </a:lnTo>
                          <a:lnTo>
                            <a:pt x="64" y="25"/>
                          </a:lnTo>
                          <a:lnTo>
                            <a:pt x="70" y="19"/>
                          </a:lnTo>
                          <a:lnTo>
                            <a:pt x="76" y="13"/>
                          </a:lnTo>
                          <a:lnTo>
                            <a:pt x="83" y="6"/>
                          </a:lnTo>
                          <a:lnTo>
                            <a:pt x="89" y="6"/>
                          </a:lnTo>
                          <a:lnTo>
                            <a:pt x="96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023240" y="1770120"/>
                  <a:ext cx="174240" cy="207360"/>
                  <a:chOff x="7023240" y="1770120"/>
                  <a:chExt cx="174240" cy="20736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7035120" y="1770120"/>
                    <a:ext cx="162360" cy="33840"/>
                    <a:chOff x="7035120" y="1770120"/>
                    <a:chExt cx="162360" cy="3384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035120" y="1780920"/>
                      <a:ext cx="162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3">
                          <a:moveTo>
                            <a:pt x="96" y="0"/>
                          </a:moveTo>
                          <a:lnTo>
                            <a:pt x="0" y="7"/>
                          </a:lnTo>
                          <a:lnTo>
                            <a:pt x="0" y="13"/>
                          </a:lnTo>
                          <a:lnTo>
                            <a:pt x="96" y="7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035120" y="1770120"/>
                      <a:ext cx="1623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3">
                          <a:moveTo>
                            <a:pt x="96" y="0"/>
                          </a:moveTo>
                          <a:lnTo>
                            <a:pt x="0" y="13"/>
                          </a:lnTo>
                          <a:lnTo>
                            <a:pt x="0" y="13"/>
                          </a:lnTo>
                          <a:lnTo>
                            <a:pt x="96" y="6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7023240" y="1816920"/>
                    <a:ext cx="65520" cy="160560"/>
                    <a:chOff x="7023240" y="1816920"/>
                    <a:chExt cx="65520" cy="160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023240" y="1816920"/>
                      <a:ext cx="65520" cy="16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89">
                          <a:moveTo>
                            <a:pt x="7" y="0"/>
                          </a:moveTo>
                          <a:lnTo>
                            <a:pt x="39" y="83"/>
                          </a:lnTo>
                          <a:lnTo>
                            <a:pt x="32" y="89"/>
                          </a:lnTo>
                          <a:lnTo>
                            <a:pt x="0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7023240" y="1816920"/>
                      <a:ext cx="543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83">
                          <a:moveTo>
                            <a:pt x="7" y="0"/>
                          </a:moveTo>
                          <a:lnTo>
                            <a:pt x="32" y="83"/>
                          </a:lnTo>
                          <a:lnTo>
                            <a:pt x="32" y="83"/>
                          </a:lnTo>
                          <a:lnTo>
                            <a:pt x="0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991200" y="1781280"/>
                  <a:ext cx="75240" cy="46440"/>
                  <a:chOff x="6991200" y="1781280"/>
                  <a:chExt cx="75240" cy="46440"/>
                </a:xfrm>
              </p:grpSpPr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012800" y="1781280"/>
                    <a:ext cx="53640" cy="46440"/>
                    <a:chOff x="7012800" y="1781280"/>
                    <a:chExt cx="53640" cy="464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7022520" y="1793880"/>
                      <a:ext cx="439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9">
                          <a:moveTo>
                            <a:pt x="7" y="0"/>
                          </a:moveTo>
                          <a:lnTo>
                            <a:pt x="26" y="6"/>
                          </a:lnTo>
                          <a:lnTo>
                            <a:pt x="26" y="6"/>
                          </a:lnTo>
                          <a:lnTo>
                            <a:pt x="26" y="6"/>
                          </a:lnTo>
                          <a:lnTo>
                            <a:pt x="26" y="13"/>
                          </a:lnTo>
                          <a:lnTo>
                            <a:pt x="26" y="13"/>
                          </a:lnTo>
                          <a:lnTo>
                            <a:pt x="26" y="19"/>
                          </a:lnTo>
                          <a:lnTo>
                            <a:pt x="20" y="19"/>
                          </a:lnTo>
                          <a:lnTo>
                            <a:pt x="20" y="19"/>
                          </a:lnTo>
                          <a:lnTo>
                            <a:pt x="20" y="19"/>
                          </a:lnTo>
                          <a:lnTo>
                            <a:pt x="13" y="19"/>
                          </a:lnTo>
                          <a:lnTo>
                            <a:pt x="0" y="13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7012800" y="1781280"/>
                      <a:ext cx="5364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6">
                          <a:moveTo>
                            <a:pt x="6" y="0"/>
                          </a:moveTo>
                          <a:lnTo>
                            <a:pt x="26" y="7"/>
                          </a:lnTo>
                          <a:lnTo>
                            <a:pt x="26" y="7"/>
                          </a:lnTo>
                          <a:lnTo>
                            <a:pt x="32" y="13"/>
                          </a:lnTo>
                          <a:lnTo>
                            <a:pt x="26" y="13"/>
                          </a:lnTo>
                          <a:lnTo>
                            <a:pt x="26" y="20"/>
                          </a:lnTo>
                          <a:lnTo>
                            <a:pt x="26" y="20"/>
                          </a:lnTo>
                          <a:lnTo>
                            <a:pt x="26" y="20"/>
                          </a:lnTo>
                          <a:lnTo>
                            <a:pt x="19" y="26"/>
                          </a:lnTo>
                          <a:lnTo>
                            <a:pt x="19" y="26"/>
                          </a:lnTo>
                          <a:lnTo>
                            <a:pt x="19" y="26"/>
                          </a:lnTo>
                          <a:lnTo>
                            <a:pt x="0" y="13"/>
                          </a:lnTo>
                          <a:lnTo>
                            <a:pt x="6" y="13"/>
                          </a:lnTo>
                          <a:lnTo>
                            <a:pt x="6" y="7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003080" y="1781280"/>
                    <a:ext cx="31320" cy="46440"/>
                    <a:chOff x="7003080" y="1781280"/>
                    <a:chExt cx="31320" cy="464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7012800" y="1781280"/>
                      <a:ext cx="2160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6">
                          <a:moveTo>
                            <a:pt x="6" y="7"/>
                          </a:move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3" y="7"/>
                          </a:lnTo>
                          <a:lnTo>
                            <a:pt x="13" y="7"/>
                          </a:lnTo>
                          <a:lnTo>
                            <a:pt x="13" y="7"/>
                          </a:lnTo>
                          <a:lnTo>
                            <a:pt x="13" y="13"/>
                          </a:lnTo>
                          <a:lnTo>
                            <a:pt x="13" y="13"/>
                          </a:lnTo>
                          <a:lnTo>
                            <a:pt x="13" y="13"/>
                          </a:lnTo>
                          <a:lnTo>
                            <a:pt x="13" y="20"/>
                          </a:lnTo>
                          <a:lnTo>
                            <a:pt x="13" y="20"/>
                          </a:lnTo>
                          <a:lnTo>
                            <a:pt x="6" y="20"/>
                          </a:lnTo>
                          <a:lnTo>
                            <a:pt x="6" y="20"/>
                          </a:lnTo>
                          <a:lnTo>
                            <a:pt x="6" y="26"/>
                          </a:lnTo>
                          <a:lnTo>
                            <a:pt x="0" y="26"/>
                          </a:lnTo>
                          <a:lnTo>
                            <a:pt x="0" y="20"/>
                          </a:lnTo>
                          <a:lnTo>
                            <a:pt x="0" y="20"/>
                          </a:lnTo>
                          <a:lnTo>
                            <a:pt x="0" y="20"/>
                          </a:lnTo>
                          <a:lnTo>
                            <a:pt x="0" y="13"/>
                          </a:lnTo>
                          <a:lnTo>
                            <a:pt x="0" y="13"/>
                          </a:lnTo>
                          <a:lnTo>
                            <a:pt x="6" y="7"/>
                          </a:lnTo>
                          <a:lnTo>
                            <a:pt x="6" y="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003080" y="1781280"/>
                      <a:ext cx="313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0">
                          <a:moveTo>
                            <a:pt x="6" y="0"/>
                          </a:moveTo>
                          <a:lnTo>
                            <a:pt x="12" y="0"/>
                          </a:lnTo>
                          <a:lnTo>
                            <a:pt x="12" y="0"/>
                          </a:lnTo>
                          <a:lnTo>
                            <a:pt x="12" y="0"/>
                          </a:lnTo>
                          <a:lnTo>
                            <a:pt x="12" y="0"/>
                          </a:lnTo>
                          <a:lnTo>
                            <a:pt x="19" y="0"/>
                          </a:lnTo>
                          <a:lnTo>
                            <a:pt x="19" y="0"/>
                          </a:lnTo>
                          <a:lnTo>
                            <a:pt x="19" y="7"/>
                          </a:lnTo>
                          <a:lnTo>
                            <a:pt x="19" y="7"/>
                          </a:lnTo>
                          <a:lnTo>
                            <a:pt x="19" y="7"/>
                          </a:lnTo>
                          <a:lnTo>
                            <a:pt x="19" y="13"/>
                          </a:lnTo>
                          <a:lnTo>
                            <a:pt x="19" y="13"/>
                          </a:lnTo>
                          <a:lnTo>
                            <a:pt x="12" y="13"/>
                          </a:lnTo>
                          <a:lnTo>
                            <a:pt x="12" y="20"/>
                          </a:lnTo>
                          <a:lnTo>
                            <a:pt x="12" y="20"/>
                          </a:lnTo>
                          <a:lnTo>
                            <a:pt x="12" y="20"/>
                          </a:lnTo>
                          <a:lnTo>
                            <a:pt x="6" y="20"/>
                          </a:lnTo>
                          <a:lnTo>
                            <a:pt x="6" y="20"/>
                          </a:lnTo>
                          <a:lnTo>
                            <a:pt x="6" y="20"/>
                          </a:lnTo>
                          <a:lnTo>
                            <a:pt x="0" y="20"/>
                          </a:lnTo>
                          <a:lnTo>
                            <a:pt x="0" y="13"/>
                          </a:lnTo>
                          <a:lnTo>
                            <a:pt x="0" y="13"/>
                          </a:lnTo>
                          <a:lnTo>
                            <a:pt x="6" y="7"/>
                          </a:lnTo>
                          <a:lnTo>
                            <a:pt x="6" y="7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991200" y="1781280"/>
                    <a:ext cx="43200" cy="35640"/>
                    <a:chOff x="6991200" y="1781280"/>
                    <a:chExt cx="43200" cy="356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7002720" y="1781280"/>
                      <a:ext cx="316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0">
                          <a:moveTo>
                            <a:pt x="12" y="7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7"/>
                          </a:lnTo>
                          <a:lnTo>
                            <a:pt x="0" y="7"/>
                          </a:lnTo>
                          <a:lnTo>
                            <a:pt x="12" y="20"/>
                          </a:lnTo>
                          <a:lnTo>
                            <a:pt x="12" y="20"/>
                          </a:lnTo>
                          <a:lnTo>
                            <a:pt x="12" y="20"/>
                          </a:lnTo>
                          <a:lnTo>
                            <a:pt x="12" y="13"/>
                          </a:lnTo>
                          <a:lnTo>
                            <a:pt x="19" y="13"/>
                          </a:lnTo>
                          <a:lnTo>
                            <a:pt x="19" y="13"/>
                          </a:lnTo>
                          <a:lnTo>
                            <a:pt x="19" y="7"/>
                          </a:lnTo>
                          <a:lnTo>
                            <a:pt x="19" y="7"/>
                          </a:lnTo>
                          <a:lnTo>
                            <a:pt x="12" y="7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6991200" y="1781280"/>
                      <a:ext cx="316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3">
                          <a:moveTo>
                            <a:pt x="19" y="0"/>
                          </a:move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7"/>
                          </a:lnTo>
                          <a:lnTo>
                            <a:pt x="13" y="13"/>
                          </a:lnTo>
                          <a:lnTo>
                            <a:pt x="13" y="13"/>
                          </a:lnTo>
                          <a:lnTo>
                            <a:pt x="19" y="13"/>
                          </a:lnTo>
                          <a:lnTo>
                            <a:pt x="19" y="13"/>
                          </a:lnTo>
                          <a:lnTo>
                            <a:pt x="19" y="13"/>
                          </a:lnTo>
                          <a:lnTo>
                            <a:pt x="19" y="7"/>
                          </a:lnTo>
                          <a:lnTo>
                            <a:pt x="19" y="7"/>
                          </a:lnTo>
                          <a:lnTo>
                            <a:pt x="19" y="7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7022880" y="1793880"/>
                    <a:ext cx="21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3" y="0"/>
                        </a:move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13" y="6"/>
                        </a:lnTo>
                        <a:lnTo>
                          <a:pt x="13" y="13"/>
                        </a:lnTo>
                        <a:lnTo>
                          <a:pt x="13" y="13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22880" y="1793880"/>
                    <a:ext cx="219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3" y="0"/>
                        </a:move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7" y="6"/>
                        </a:lnTo>
                        <a:lnTo>
                          <a:pt x="7" y="13"/>
                        </a:lnTo>
                        <a:lnTo>
                          <a:pt x="7" y="13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4537800" y="2279160"/>
                <a:ext cx="314640" cy="483480"/>
                <a:chOff x="4537800" y="2279160"/>
                <a:chExt cx="314640" cy="48348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4537800" y="2289600"/>
                  <a:ext cx="314640" cy="473040"/>
                  <a:chOff x="4537800" y="2289600"/>
                  <a:chExt cx="314640" cy="47304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4712040" y="2555280"/>
                    <a:ext cx="31320" cy="69120"/>
                    <a:chOff x="4712040" y="2555280"/>
                    <a:chExt cx="31320" cy="6912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4712040" y="2555280"/>
                      <a:ext cx="31320" cy="69120"/>
                      <a:chOff x="4712040" y="2555280"/>
                      <a:chExt cx="31320" cy="6912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722120" y="2567520"/>
                        <a:ext cx="21240" cy="56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712040" y="2555280"/>
                        <a:ext cx="19800" cy="56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4732200" y="2567880"/>
                      <a:ext cx="1800" cy="44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4744440" y="2520720"/>
                    <a:ext cx="41760" cy="104400"/>
                    <a:chOff x="4744440" y="2520720"/>
                    <a:chExt cx="41760" cy="10440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754520" y="2531520"/>
                      <a:ext cx="31680" cy="93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744440" y="2520720"/>
                      <a:ext cx="32040" cy="918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>
                    <a:off x="4636080" y="2544480"/>
                    <a:ext cx="21600" cy="230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678200" y="2509920"/>
                    <a:ext cx="33480" cy="21240"/>
                    <a:chOff x="4678200" y="2509920"/>
                    <a:chExt cx="33480" cy="2124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690080" y="2509920"/>
                      <a:ext cx="216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2">
                          <a:moveTo>
                            <a:pt x="6" y="0"/>
                          </a:moveTo>
                          <a:lnTo>
                            <a:pt x="13" y="12"/>
                          </a:lnTo>
                          <a:lnTo>
                            <a:pt x="0" y="12"/>
                          </a:lnTo>
                          <a:lnTo>
                            <a:pt x="0" y="6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678200" y="2509920"/>
                      <a:ext cx="216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2">
                          <a:moveTo>
                            <a:pt x="7" y="0"/>
                          </a:moveTo>
                          <a:lnTo>
                            <a:pt x="13" y="12"/>
                          </a:lnTo>
                          <a:lnTo>
                            <a:pt x="7" y="12"/>
                          </a:lnTo>
                          <a:lnTo>
                            <a:pt x="0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4658040" y="2625840"/>
                    <a:ext cx="74160" cy="21240"/>
                    <a:chOff x="4658040" y="2625840"/>
                    <a:chExt cx="74160" cy="2124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668120" y="2625840"/>
                      <a:ext cx="64080" cy="2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4658040" y="2625840"/>
                      <a:ext cx="74160" cy="212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754880" y="2394360"/>
                    <a:ext cx="31320" cy="44640"/>
                    <a:chOff x="4754880" y="2394360"/>
                    <a:chExt cx="31320" cy="446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4754880" y="2394360"/>
                      <a:ext cx="313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5">
                          <a:moveTo>
                            <a:pt x="0" y="0"/>
                          </a:moveTo>
                          <a:lnTo>
                            <a:pt x="19" y="19"/>
                          </a:lnTo>
                          <a:lnTo>
                            <a:pt x="19" y="25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754880" y="2394360"/>
                      <a:ext cx="21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3"/>
                          </a:lnTo>
                          <a:lnTo>
                            <a:pt x="13" y="19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744440" y="2289600"/>
                    <a:ext cx="53640" cy="335880"/>
                    <a:chOff x="4744440" y="2289600"/>
                    <a:chExt cx="53640" cy="33588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754520" y="2302200"/>
                      <a:ext cx="43560" cy="32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79">
                          <a:moveTo>
                            <a:pt x="0" y="0"/>
                          </a:moveTo>
                          <a:lnTo>
                            <a:pt x="26" y="6"/>
                          </a:lnTo>
                          <a:lnTo>
                            <a:pt x="26" y="179"/>
                          </a:lnTo>
                          <a:lnTo>
                            <a:pt x="19" y="179"/>
                          </a:lnTo>
                          <a:lnTo>
                            <a:pt x="19" y="25"/>
                          </a:lnTo>
                          <a:lnTo>
                            <a:pt x="0" y="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744440" y="2289600"/>
                      <a:ext cx="41760" cy="32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9">
                          <a:moveTo>
                            <a:pt x="0" y="0"/>
                          </a:moveTo>
                          <a:lnTo>
                            <a:pt x="25" y="13"/>
                          </a:lnTo>
                          <a:lnTo>
                            <a:pt x="25" y="179"/>
                          </a:lnTo>
                          <a:lnTo>
                            <a:pt x="19" y="179"/>
                          </a:lnTo>
                          <a:lnTo>
                            <a:pt x="19" y="26"/>
                          </a:lnTo>
                          <a:lnTo>
                            <a:pt x="0" y="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537800" y="2612880"/>
                    <a:ext cx="260640" cy="81000"/>
                    <a:chOff x="4537800" y="2612880"/>
                    <a:chExt cx="260640" cy="8100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549680" y="2625480"/>
                      <a:ext cx="2487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8">
                          <a:moveTo>
                            <a:pt x="147" y="38"/>
                          </a:moveTo>
                          <a:lnTo>
                            <a:pt x="147" y="0"/>
                          </a:lnTo>
                          <a:lnTo>
                            <a:pt x="115" y="0"/>
                          </a:lnTo>
                          <a:lnTo>
                            <a:pt x="108" y="6"/>
                          </a:lnTo>
                          <a:lnTo>
                            <a:pt x="89" y="6"/>
                          </a:lnTo>
                          <a:lnTo>
                            <a:pt x="83" y="12"/>
                          </a:lnTo>
                          <a:lnTo>
                            <a:pt x="19" y="12"/>
                          </a:lnTo>
                          <a:lnTo>
                            <a:pt x="19" y="25"/>
                          </a:lnTo>
                          <a:lnTo>
                            <a:pt x="0" y="25"/>
                          </a:lnTo>
                          <a:lnTo>
                            <a:pt x="0" y="38"/>
                          </a:lnTo>
                          <a:lnTo>
                            <a:pt x="147" y="38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537800" y="2612880"/>
                      <a:ext cx="2487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8">
                          <a:moveTo>
                            <a:pt x="147" y="38"/>
                          </a:moveTo>
                          <a:lnTo>
                            <a:pt x="147" y="0"/>
                          </a:lnTo>
                          <a:lnTo>
                            <a:pt x="115" y="0"/>
                          </a:lnTo>
                          <a:lnTo>
                            <a:pt x="109" y="7"/>
                          </a:lnTo>
                          <a:lnTo>
                            <a:pt x="90" y="7"/>
                          </a:lnTo>
                          <a:lnTo>
                            <a:pt x="83" y="13"/>
                          </a:lnTo>
                          <a:lnTo>
                            <a:pt x="20" y="13"/>
                          </a:lnTo>
                          <a:lnTo>
                            <a:pt x="20" y="26"/>
                          </a:lnTo>
                          <a:lnTo>
                            <a:pt x="0" y="26"/>
                          </a:lnTo>
                          <a:lnTo>
                            <a:pt x="0" y="38"/>
                          </a:lnTo>
                          <a:lnTo>
                            <a:pt x="147" y="38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603680" y="2660040"/>
                    <a:ext cx="194400" cy="33840"/>
                    <a:chOff x="4603680" y="2660040"/>
                    <a:chExt cx="194400" cy="338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613760" y="2670480"/>
                      <a:ext cx="184320" cy="2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603680" y="2660040"/>
                      <a:ext cx="182520" cy="212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4" name=""/>
                  <p:cNvSpPr/>
                  <p:nvPr/>
                </p:nvSpPr>
                <p:spPr>
                  <a:xfrm>
                    <a:off x="4798800" y="2520720"/>
                    <a:ext cx="1800" cy="4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4786920" y="2555280"/>
                    <a:ext cx="21600" cy="33840"/>
                    <a:chOff x="4786920" y="2555280"/>
                    <a:chExt cx="21600" cy="3384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786920" y="2567880"/>
                      <a:ext cx="216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2">
                          <a:moveTo>
                            <a:pt x="13" y="12"/>
                          </a:moveTo>
                          <a:lnTo>
                            <a:pt x="13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3" y="0"/>
                          </a:lnTo>
                          <a:lnTo>
                            <a:pt x="13" y="12"/>
                          </a:lnTo>
                          <a:lnTo>
                            <a:pt x="13" y="12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786920" y="2555280"/>
                      <a:ext cx="216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13" y="13"/>
                          </a:moveTo>
                          <a:lnTo>
                            <a:pt x="13" y="0"/>
                          </a:lnTo>
                          <a:lnTo>
                            <a:pt x="0" y="0"/>
                          </a:lnTo>
                          <a:lnTo>
                            <a:pt x="0" y="7"/>
                          </a:lnTo>
                          <a:lnTo>
                            <a:pt x="7" y="7"/>
                          </a:lnTo>
                          <a:lnTo>
                            <a:pt x="7" y="13"/>
                          </a:lnTo>
                          <a:lnTo>
                            <a:pt x="13" y="13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4658040" y="2544480"/>
                    <a:ext cx="64080" cy="91800"/>
                    <a:chOff x="4658040" y="2544480"/>
                    <a:chExt cx="64080" cy="918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668120" y="2544480"/>
                      <a:ext cx="540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1">
                          <a:moveTo>
                            <a:pt x="32" y="0"/>
                          </a:moveTo>
                          <a:lnTo>
                            <a:pt x="0" y="51"/>
                          </a:lnTo>
                          <a:lnTo>
                            <a:pt x="0" y="51"/>
                          </a:lnTo>
                          <a:lnTo>
                            <a:pt x="32" y="6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658040" y="2544480"/>
                      <a:ext cx="54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45">
                          <a:moveTo>
                            <a:pt x="32" y="0"/>
                          </a:moveTo>
                          <a:lnTo>
                            <a:pt x="0" y="45"/>
                          </a:lnTo>
                          <a:lnTo>
                            <a:pt x="6" y="45"/>
                          </a:lnTo>
                          <a:lnTo>
                            <a:pt x="32" y="6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786920" y="2589480"/>
                    <a:ext cx="53280" cy="104400"/>
                    <a:chOff x="4786920" y="2589480"/>
                    <a:chExt cx="53280" cy="1044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798440" y="2602080"/>
                      <a:ext cx="4176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1">
                          <a:moveTo>
                            <a:pt x="6" y="0"/>
                          </a:moveTo>
                          <a:lnTo>
                            <a:pt x="25" y="19"/>
                          </a:lnTo>
                          <a:lnTo>
                            <a:pt x="25" y="51"/>
                          </a:lnTo>
                          <a:lnTo>
                            <a:pt x="0" y="51"/>
                          </a:lnTo>
                          <a:lnTo>
                            <a:pt x="0" y="1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786920" y="2589480"/>
                      <a:ext cx="4392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1">
                          <a:moveTo>
                            <a:pt x="7" y="0"/>
                          </a:moveTo>
                          <a:lnTo>
                            <a:pt x="26" y="20"/>
                          </a:lnTo>
                          <a:lnTo>
                            <a:pt x="26" y="51"/>
                          </a:lnTo>
                          <a:lnTo>
                            <a:pt x="0" y="51"/>
                          </a:lnTo>
                          <a:lnTo>
                            <a:pt x="0" y="13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537800" y="2729160"/>
                    <a:ext cx="314640" cy="33480"/>
                    <a:chOff x="4537800" y="2729160"/>
                    <a:chExt cx="314640" cy="334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549680" y="2739600"/>
                      <a:ext cx="30276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537800" y="2729160"/>
                      <a:ext cx="30276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4537800" y="2705400"/>
                    <a:ext cx="314640" cy="33840"/>
                    <a:chOff x="4537800" y="2705400"/>
                    <a:chExt cx="314640" cy="33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49680" y="2718000"/>
                      <a:ext cx="302760" cy="2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4537800" y="2705400"/>
                      <a:ext cx="302760" cy="23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537800" y="2682000"/>
                    <a:ext cx="314640" cy="35640"/>
                    <a:chOff x="4537800" y="2682000"/>
                    <a:chExt cx="314640" cy="356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549680" y="2694600"/>
                      <a:ext cx="30276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537800" y="2682000"/>
                      <a:ext cx="30276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4549680" y="2670840"/>
                    <a:ext cx="32040" cy="23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798800" y="2589480"/>
                    <a:ext cx="32040" cy="36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712040" y="2531880"/>
                    <a:ext cx="31680" cy="35640"/>
                    <a:chOff x="4712040" y="2531880"/>
                    <a:chExt cx="31680" cy="3564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722120" y="2544480"/>
                      <a:ext cx="2160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712040" y="2531880"/>
                      <a:ext cx="2016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4658040" y="2520720"/>
                    <a:ext cx="96480" cy="104400"/>
                    <a:chOff x="4658040" y="2520720"/>
                    <a:chExt cx="96480" cy="10440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668120" y="2531520"/>
                      <a:ext cx="864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2">
                          <a:moveTo>
                            <a:pt x="45" y="52"/>
                          </a:moveTo>
                          <a:lnTo>
                            <a:pt x="45" y="7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lnTo>
                            <a:pt x="51" y="0"/>
                          </a:lnTo>
                          <a:lnTo>
                            <a:pt x="51" y="52"/>
                          </a:lnTo>
                          <a:lnTo>
                            <a:pt x="45" y="52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658040" y="2520720"/>
                      <a:ext cx="864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44" y="51"/>
                          </a:moveTo>
                          <a:lnTo>
                            <a:pt x="44" y="6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lnTo>
                            <a:pt x="51" y="0"/>
                          </a:lnTo>
                          <a:lnTo>
                            <a:pt x="51" y="51"/>
                          </a:lnTo>
                          <a:lnTo>
                            <a:pt x="44" y="51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722480" y="2439360"/>
                    <a:ext cx="108000" cy="104400"/>
                    <a:chOff x="4722480" y="2439360"/>
                    <a:chExt cx="108000" cy="1044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722480" y="2439360"/>
                      <a:ext cx="108000" cy="10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732200" y="2439360"/>
                      <a:ext cx="98280" cy="10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744440" y="2612880"/>
                    <a:ext cx="41400" cy="104040"/>
                    <a:chOff x="4744440" y="2612880"/>
                    <a:chExt cx="41400" cy="104040"/>
                  </a:xfrm>
                </p:grpSpPr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4744440" y="2612880"/>
                      <a:ext cx="41400" cy="104040"/>
                      <a:chOff x="4744440" y="2612880"/>
                      <a:chExt cx="41400" cy="10404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4754520" y="2625480"/>
                        <a:ext cx="3132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4744440" y="2612880"/>
                        <a:ext cx="31680" cy="914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4754160" y="2625480"/>
                      <a:ext cx="31320" cy="69840"/>
                      <a:chOff x="4754160" y="2625480"/>
                      <a:chExt cx="31320" cy="6984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 flipH="1">
                        <a:off x="4754160" y="26362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 flipH="1">
                        <a:off x="4754160" y="267012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flipH="1">
                        <a:off x="4754160" y="26596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4754160" y="264708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H="1">
                        <a:off x="4754160" y="2625480"/>
                        <a:ext cx="3132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 flipH="1">
                        <a:off x="4754160" y="26812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flipH="1">
                        <a:off x="4754160" y="2693880"/>
                        <a:ext cx="3132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4549680" y="2636640"/>
                    <a:ext cx="31680" cy="33480"/>
                    <a:chOff x="4549680" y="2636640"/>
                    <a:chExt cx="31680" cy="334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4559400" y="2647080"/>
                      <a:ext cx="21960" cy="2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549680" y="2636640"/>
                      <a:ext cx="21600" cy="23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4603680" y="2382120"/>
                  <a:ext cx="63720" cy="69840"/>
                  <a:chOff x="4603680" y="2382120"/>
                  <a:chExt cx="63720" cy="69840"/>
                </a:xfrm>
              </p:grpSpPr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4603680" y="2394720"/>
                    <a:ext cx="31680" cy="57240"/>
                    <a:chOff x="4603680" y="2394720"/>
                    <a:chExt cx="31680" cy="572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613760" y="2405160"/>
                      <a:ext cx="2160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6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26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4603680" y="2394720"/>
                      <a:ext cx="316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5">
                          <a:moveTo>
                            <a:pt x="6" y="0"/>
                          </a:moveTo>
                          <a:lnTo>
                            <a:pt x="19" y="25"/>
                          </a:lnTo>
                          <a:lnTo>
                            <a:pt x="13" y="25"/>
                          </a:lnTo>
                          <a:lnTo>
                            <a:pt x="0" y="6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613760" y="2382120"/>
                    <a:ext cx="53640" cy="22680"/>
                    <a:chOff x="4613760" y="2382120"/>
                    <a:chExt cx="53640" cy="2268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613760" y="2382120"/>
                      <a:ext cx="53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3">
                          <a:moveTo>
                            <a:pt x="7" y="0"/>
                          </a:moveTo>
                          <a:lnTo>
                            <a:pt x="32" y="13"/>
                          </a:lnTo>
                          <a:lnTo>
                            <a:pt x="26" y="13"/>
                          </a:lnTo>
                          <a:lnTo>
                            <a:pt x="0" y="7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13760" y="2382120"/>
                      <a:ext cx="435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3">
                          <a:moveTo>
                            <a:pt x="0" y="0"/>
                          </a:moveTo>
                          <a:lnTo>
                            <a:pt x="26" y="7"/>
                          </a:lnTo>
                          <a:lnTo>
                            <a:pt x="26" y="13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591800" y="2279160"/>
                  <a:ext cx="184320" cy="299520"/>
                  <a:chOff x="4591800" y="2279160"/>
                  <a:chExt cx="184320" cy="299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4591800" y="2279160"/>
                    <a:ext cx="184320" cy="299520"/>
                    <a:chOff x="4591800" y="2279160"/>
                    <a:chExt cx="184320" cy="2995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591800" y="2279160"/>
                      <a:ext cx="18432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66">
                          <a:moveTo>
                            <a:pt x="103" y="6"/>
                          </a:moveTo>
                          <a:lnTo>
                            <a:pt x="109" y="13"/>
                          </a:lnTo>
                          <a:lnTo>
                            <a:pt x="109" y="19"/>
                          </a:lnTo>
                          <a:lnTo>
                            <a:pt x="109" y="26"/>
                          </a:lnTo>
                          <a:lnTo>
                            <a:pt x="109" y="32"/>
                          </a:lnTo>
                          <a:lnTo>
                            <a:pt x="109" y="38"/>
                          </a:lnTo>
                          <a:lnTo>
                            <a:pt x="109" y="51"/>
                          </a:lnTo>
                          <a:lnTo>
                            <a:pt x="103" y="64"/>
                          </a:lnTo>
                          <a:lnTo>
                            <a:pt x="103" y="77"/>
                          </a:lnTo>
                          <a:lnTo>
                            <a:pt x="96" y="89"/>
                          </a:lnTo>
                          <a:lnTo>
                            <a:pt x="83" y="102"/>
                          </a:lnTo>
                          <a:lnTo>
                            <a:pt x="77" y="121"/>
                          </a:lnTo>
                          <a:lnTo>
                            <a:pt x="64" y="128"/>
                          </a:lnTo>
                          <a:lnTo>
                            <a:pt x="58" y="140"/>
                          </a:lnTo>
                          <a:lnTo>
                            <a:pt x="45" y="147"/>
                          </a:lnTo>
                          <a:lnTo>
                            <a:pt x="32" y="160"/>
                          </a:lnTo>
                          <a:lnTo>
                            <a:pt x="26" y="160"/>
                          </a:lnTo>
                          <a:lnTo>
                            <a:pt x="20" y="166"/>
                          </a:lnTo>
                          <a:lnTo>
                            <a:pt x="13" y="166"/>
                          </a:lnTo>
                          <a:lnTo>
                            <a:pt x="7" y="166"/>
                          </a:lnTo>
                          <a:lnTo>
                            <a:pt x="0" y="166"/>
                          </a:lnTo>
                          <a:lnTo>
                            <a:pt x="103" y="0"/>
                          </a:lnTo>
                          <a:lnTo>
                            <a:pt x="103" y="6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591800" y="2279160"/>
                      <a:ext cx="17424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66">
                          <a:moveTo>
                            <a:pt x="103" y="6"/>
                          </a:moveTo>
                          <a:lnTo>
                            <a:pt x="103" y="6"/>
                          </a:lnTo>
                          <a:lnTo>
                            <a:pt x="103" y="13"/>
                          </a:lnTo>
                          <a:lnTo>
                            <a:pt x="103" y="19"/>
                          </a:lnTo>
                          <a:lnTo>
                            <a:pt x="103" y="26"/>
                          </a:lnTo>
                          <a:lnTo>
                            <a:pt x="103" y="38"/>
                          </a:lnTo>
                          <a:lnTo>
                            <a:pt x="103" y="45"/>
                          </a:lnTo>
                          <a:lnTo>
                            <a:pt x="103" y="57"/>
                          </a:lnTo>
                          <a:lnTo>
                            <a:pt x="96" y="70"/>
                          </a:lnTo>
                          <a:lnTo>
                            <a:pt x="90" y="83"/>
                          </a:lnTo>
                          <a:lnTo>
                            <a:pt x="83" y="102"/>
                          </a:lnTo>
                          <a:lnTo>
                            <a:pt x="71" y="115"/>
                          </a:lnTo>
                          <a:lnTo>
                            <a:pt x="64" y="128"/>
                          </a:lnTo>
                          <a:lnTo>
                            <a:pt x="51" y="134"/>
                          </a:lnTo>
                          <a:lnTo>
                            <a:pt x="39" y="147"/>
                          </a:lnTo>
                          <a:lnTo>
                            <a:pt x="32" y="153"/>
                          </a:lnTo>
                          <a:lnTo>
                            <a:pt x="20" y="160"/>
                          </a:lnTo>
                          <a:lnTo>
                            <a:pt x="13" y="160"/>
                          </a:lnTo>
                          <a:lnTo>
                            <a:pt x="7" y="166"/>
                          </a:lnTo>
                          <a:lnTo>
                            <a:pt x="0" y="166"/>
                          </a:lnTo>
                          <a:lnTo>
                            <a:pt x="0" y="160"/>
                          </a:lnTo>
                          <a:lnTo>
                            <a:pt x="96" y="0"/>
                          </a:lnTo>
                          <a:lnTo>
                            <a:pt x="103" y="6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4591800" y="2279160"/>
                    <a:ext cx="174240" cy="299520"/>
                    <a:chOff x="4591800" y="2279160"/>
                    <a:chExt cx="174240" cy="2995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4591800" y="2279160"/>
                      <a:ext cx="174240" cy="29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66">
                          <a:moveTo>
                            <a:pt x="103" y="0"/>
                          </a:moveTo>
                          <a:lnTo>
                            <a:pt x="103" y="6"/>
                          </a:lnTo>
                          <a:lnTo>
                            <a:pt x="103" y="13"/>
                          </a:lnTo>
                          <a:lnTo>
                            <a:pt x="103" y="19"/>
                          </a:lnTo>
                          <a:lnTo>
                            <a:pt x="103" y="26"/>
                          </a:lnTo>
                          <a:lnTo>
                            <a:pt x="103" y="38"/>
                          </a:lnTo>
                          <a:lnTo>
                            <a:pt x="96" y="45"/>
                          </a:lnTo>
                          <a:lnTo>
                            <a:pt x="96" y="57"/>
                          </a:lnTo>
                          <a:lnTo>
                            <a:pt x="90" y="70"/>
                          </a:lnTo>
                          <a:lnTo>
                            <a:pt x="83" y="89"/>
                          </a:lnTo>
                          <a:lnTo>
                            <a:pt x="77" y="102"/>
                          </a:lnTo>
                          <a:lnTo>
                            <a:pt x="64" y="115"/>
                          </a:lnTo>
                          <a:lnTo>
                            <a:pt x="58" y="121"/>
                          </a:lnTo>
                          <a:lnTo>
                            <a:pt x="51" y="134"/>
                          </a:lnTo>
                          <a:lnTo>
                            <a:pt x="45" y="140"/>
                          </a:lnTo>
                          <a:lnTo>
                            <a:pt x="39" y="147"/>
                          </a:lnTo>
                          <a:lnTo>
                            <a:pt x="32" y="153"/>
                          </a:lnTo>
                          <a:lnTo>
                            <a:pt x="26" y="153"/>
                          </a:lnTo>
                          <a:lnTo>
                            <a:pt x="20" y="160"/>
                          </a:lnTo>
                          <a:lnTo>
                            <a:pt x="13" y="160"/>
                          </a:lnTo>
                          <a:lnTo>
                            <a:pt x="7" y="166"/>
                          </a:lnTo>
                          <a:lnTo>
                            <a:pt x="7" y="166"/>
                          </a:lnTo>
                          <a:lnTo>
                            <a:pt x="0" y="166"/>
                          </a:lnTo>
                          <a:lnTo>
                            <a:pt x="0" y="160"/>
                          </a:lnTo>
                          <a:lnTo>
                            <a:pt x="7" y="153"/>
                          </a:lnTo>
                          <a:lnTo>
                            <a:pt x="7" y="147"/>
                          </a:lnTo>
                          <a:lnTo>
                            <a:pt x="7" y="140"/>
                          </a:lnTo>
                          <a:lnTo>
                            <a:pt x="7" y="134"/>
                          </a:lnTo>
                          <a:lnTo>
                            <a:pt x="13" y="121"/>
                          </a:lnTo>
                          <a:lnTo>
                            <a:pt x="13" y="115"/>
                          </a:lnTo>
                          <a:lnTo>
                            <a:pt x="20" y="102"/>
                          </a:lnTo>
                          <a:lnTo>
                            <a:pt x="20" y="96"/>
                          </a:lnTo>
                          <a:lnTo>
                            <a:pt x="26" y="89"/>
                          </a:lnTo>
                          <a:lnTo>
                            <a:pt x="32" y="77"/>
                          </a:lnTo>
                          <a:lnTo>
                            <a:pt x="39" y="70"/>
                          </a:lnTo>
                          <a:lnTo>
                            <a:pt x="45" y="57"/>
                          </a:lnTo>
                          <a:lnTo>
                            <a:pt x="51" y="51"/>
                          </a:lnTo>
                          <a:lnTo>
                            <a:pt x="58" y="38"/>
                          </a:lnTo>
                          <a:lnTo>
                            <a:pt x="71" y="32"/>
                          </a:lnTo>
                          <a:lnTo>
                            <a:pt x="77" y="26"/>
                          </a:lnTo>
                          <a:lnTo>
                            <a:pt x="83" y="19"/>
                          </a:lnTo>
                          <a:lnTo>
                            <a:pt x="90" y="13"/>
                          </a:lnTo>
                          <a:lnTo>
                            <a:pt x="90" y="6"/>
                          </a:lnTo>
                          <a:lnTo>
                            <a:pt x="96" y="0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591800" y="2279160"/>
                      <a:ext cx="162720" cy="28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60">
                          <a:moveTo>
                            <a:pt x="96" y="0"/>
                          </a:moveTo>
                          <a:lnTo>
                            <a:pt x="96" y="0"/>
                          </a:lnTo>
                          <a:lnTo>
                            <a:pt x="96" y="6"/>
                          </a:lnTo>
                          <a:lnTo>
                            <a:pt x="96" y="19"/>
                          </a:lnTo>
                          <a:lnTo>
                            <a:pt x="96" y="26"/>
                          </a:lnTo>
                          <a:lnTo>
                            <a:pt x="96" y="32"/>
                          </a:lnTo>
                          <a:lnTo>
                            <a:pt x="96" y="45"/>
                          </a:lnTo>
                          <a:lnTo>
                            <a:pt x="90" y="51"/>
                          </a:lnTo>
                          <a:lnTo>
                            <a:pt x="90" y="70"/>
                          </a:lnTo>
                          <a:lnTo>
                            <a:pt x="83" y="83"/>
                          </a:lnTo>
                          <a:lnTo>
                            <a:pt x="71" y="96"/>
                          </a:lnTo>
                          <a:lnTo>
                            <a:pt x="64" y="109"/>
                          </a:lnTo>
                          <a:lnTo>
                            <a:pt x="51" y="121"/>
                          </a:lnTo>
                          <a:lnTo>
                            <a:pt x="45" y="128"/>
                          </a:lnTo>
                          <a:lnTo>
                            <a:pt x="39" y="134"/>
                          </a:lnTo>
                          <a:lnTo>
                            <a:pt x="32" y="140"/>
                          </a:lnTo>
                          <a:lnTo>
                            <a:pt x="26" y="147"/>
                          </a:lnTo>
                          <a:lnTo>
                            <a:pt x="20" y="153"/>
                          </a:lnTo>
                          <a:lnTo>
                            <a:pt x="13" y="153"/>
                          </a:lnTo>
                          <a:lnTo>
                            <a:pt x="7" y="160"/>
                          </a:lnTo>
                          <a:lnTo>
                            <a:pt x="7" y="160"/>
                          </a:lnTo>
                          <a:lnTo>
                            <a:pt x="0" y="160"/>
                          </a:lnTo>
                          <a:lnTo>
                            <a:pt x="0" y="160"/>
                          </a:lnTo>
                          <a:lnTo>
                            <a:pt x="0" y="160"/>
                          </a:lnTo>
                          <a:lnTo>
                            <a:pt x="0" y="153"/>
                          </a:lnTo>
                          <a:lnTo>
                            <a:pt x="0" y="147"/>
                          </a:lnTo>
                          <a:lnTo>
                            <a:pt x="7" y="134"/>
                          </a:lnTo>
                          <a:lnTo>
                            <a:pt x="7" y="128"/>
                          </a:lnTo>
                          <a:lnTo>
                            <a:pt x="7" y="121"/>
                          </a:lnTo>
                          <a:lnTo>
                            <a:pt x="13" y="109"/>
                          </a:lnTo>
                          <a:lnTo>
                            <a:pt x="13" y="102"/>
                          </a:lnTo>
                          <a:lnTo>
                            <a:pt x="20" y="96"/>
                          </a:lnTo>
                          <a:lnTo>
                            <a:pt x="20" y="83"/>
                          </a:lnTo>
                          <a:lnTo>
                            <a:pt x="26" y="77"/>
                          </a:lnTo>
                          <a:lnTo>
                            <a:pt x="32" y="64"/>
                          </a:lnTo>
                          <a:lnTo>
                            <a:pt x="39" y="57"/>
                          </a:lnTo>
                          <a:lnTo>
                            <a:pt x="45" y="45"/>
                          </a:lnTo>
                          <a:lnTo>
                            <a:pt x="58" y="38"/>
                          </a:lnTo>
                          <a:lnTo>
                            <a:pt x="64" y="26"/>
                          </a:lnTo>
                          <a:lnTo>
                            <a:pt x="71" y="19"/>
                          </a:lnTo>
                          <a:lnTo>
                            <a:pt x="77" y="13"/>
                          </a:lnTo>
                          <a:lnTo>
                            <a:pt x="83" y="6"/>
                          </a:lnTo>
                          <a:lnTo>
                            <a:pt x="90" y="6"/>
                          </a:lnTo>
                          <a:lnTo>
                            <a:pt x="96" y="0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4581720" y="2347560"/>
                  <a:ext cx="172440" cy="207000"/>
                  <a:chOff x="4581720" y="2347560"/>
                  <a:chExt cx="172440" cy="207000"/>
                </a:xfrm>
              </p:grpSpPr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4591440" y="2347560"/>
                    <a:ext cx="162720" cy="33840"/>
                    <a:chOff x="4591440" y="2347560"/>
                    <a:chExt cx="162720" cy="338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4591440" y="2360160"/>
                      <a:ext cx="1627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2">
                          <a:moveTo>
                            <a:pt x="96" y="0"/>
                          </a:move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96" y="6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591440" y="2347560"/>
                      <a:ext cx="162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3">
                          <a:moveTo>
                            <a:pt x="96" y="0"/>
                          </a:moveTo>
                          <a:lnTo>
                            <a:pt x="0" y="13"/>
                          </a:lnTo>
                          <a:lnTo>
                            <a:pt x="0" y="13"/>
                          </a:lnTo>
                          <a:lnTo>
                            <a:pt x="96" y="7"/>
                          </a:lnTo>
                          <a:lnTo>
                            <a:pt x="9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81720" y="2394360"/>
                    <a:ext cx="63720" cy="160200"/>
                    <a:chOff x="4581720" y="2394360"/>
                    <a:chExt cx="63720" cy="16020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581720" y="2394360"/>
                      <a:ext cx="63720" cy="16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9">
                          <a:moveTo>
                            <a:pt x="6" y="0"/>
                          </a:moveTo>
                          <a:lnTo>
                            <a:pt x="38" y="83"/>
                          </a:lnTo>
                          <a:lnTo>
                            <a:pt x="32" y="89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581720" y="2394360"/>
                      <a:ext cx="5400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83">
                          <a:moveTo>
                            <a:pt x="6" y="0"/>
                          </a:moveTo>
                          <a:lnTo>
                            <a:pt x="32" y="83"/>
                          </a:lnTo>
                          <a:lnTo>
                            <a:pt x="32" y="83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4549680" y="2360160"/>
                  <a:ext cx="75240" cy="44280"/>
                  <a:chOff x="4549680" y="2360160"/>
                  <a:chExt cx="75240" cy="4428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4571280" y="2360160"/>
                    <a:ext cx="53640" cy="44280"/>
                    <a:chOff x="4571280" y="2360160"/>
                    <a:chExt cx="53640" cy="4428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4581360" y="2370600"/>
                      <a:ext cx="435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9">
                          <a:moveTo>
                            <a:pt x="6" y="0"/>
                          </a:moveTo>
                          <a:lnTo>
                            <a:pt x="26" y="6"/>
                          </a:lnTo>
                          <a:lnTo>
                            <a:pt x="26" y="6"/>
                          </a:lnTo>
                          <a:lnTo>
                            <a:pt x="26" y="6"/>
                          </a:lnTo>
                          <a:lnTo>
                            <a:pt x="26" y="13"/>
                          </a:lnTo>
                          <a:lnTo>
                            <a:pt x="26" y="13"/>
                          </a:lnTo>
                          <a:lnTo>
                            <a:pt x="26" y="19"/>
                          </a:lnTo>
                          <a:lnTo>
                            <a:pt x="19" y="19"/>
                          </a:lnTo>
                          <a:lnTo>
                            <a:pt x="19" y="19"/>
                          </a:lnTo>
                          <a:lnTo>
                            <a:pt x="19" y="19"/>
                          </a:lnTo>
                          <a:lnTo>
                            <a:pt x="13" y="19"/>
                          </a:lnTo>
                          <a:lnTo>
                            <a:pt x="0" y="13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571280" y="2360160"/>
                      <a:ext cx="536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5">
                          <a:moveTo>
                            <a:pt x="6" y="0"/>
                          </a:moveTo>
                          <a:lnTo>
                            <a:pt x="25" y="6"/>
                          </a:lnTo>
                          <a:lnTo>
                            <a:pt x="25" y="6"/>
                          </a:lnTo>
                          <a:lnTo>
                            <a:pt x="32" y="12"/>
                          </a:lnTo>
                          <a:lnTo>
                            <a:pt x="25" y="12"/>
                          </a:lnTo>
                          <a:lnTo>
                            <a:pt x="25" y="19"/>
                          </a:lnTo>
                          <a:lnTo>
                            <a:pt x="25" y="19"/>
                          </a:lnTo>
                          <a:lnTo>
                            <a:pt x="25" y="19"/>
                          </a:lnTo>
                          <a:lnTo>
                            <a:pt x="19" y="25"/>
                          </a:lnTo>
                          <a:lnTo>
                            <a:pt x="19" y="25"/>
                          </a:lnTo>
                          <a:lnTo>
                            <a:pt x="19" y="25"/>
                          </a:lnTo>
                          <a:lnTo>
                            <a:pt x="0" y="12"/>
                          </a:lnTo>
                          <a:lnTo>
                            <a:pt x="6" y="12"/>
                          </a:lnTo>
                          <a:lnTo>
                            <a:pt x="6" y="6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4559400" y="2360160"/>
                    <a:ext cx="31680" cy="44280"/>
                    <a:chOff x="4559400" y="2360160"/>
                    <a:chExt cx="31680" cy="4428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570920" y="2360160"/>
                      <a:ext cx="201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5">
                          <a:moveTo>
                            <a:pt x="6" y="6"/>
                          </a:move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12" y="0"/>
                          </a:lnTo>
                          <a:lnTo>
                            <a:pt x="12" y="0"/>
                          </a:lnTo>
                          <a:lnTo>
                            <a:pt x="12" y="0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6"/>
                          </a:lnTo>
                          <a:lnTo>
                            <a:pt x="12" y="12"/>
                          </a:lnTo>
                          <a:lnTo>
                            <a:pt x="12" y="12"/>
                          </a:lnTo>
                          <a:lnTo>
                            <a:pt x="12" y="12"/>
                          </a:lnTo>
                          <a:lnTo>
                            <a:pt x="12" y="19"/>
                          </a:lnTo>
                          <a:lnTo>
                            <a:pt x="12" y="19"/>
                          </a:lnTo>
                          <a:lnTo>
                            <a:pt x="6" y="19"/>
                          </a:lnTo>
                          <a:lnTo>
                            <a:pt x="6" y="19"/>
                          </a:lnTo>
                          <a:lnTo>
                            <a:pt x="6" y="25"/>
                          </a:lnTo>
                          <a:lnTo>
                            <a:pt x="0" y="25"/>
                          </a:lnTo>
                          <a:lnTo>
                            <a:pt x="0" y="19"/>
                          </a:lnTo>
                          <a:lnTo>
                            <a:pt x="0" y="19"/>
                          </a:lnTo>
                          <a:lnTo>
                            <a:pt x="0" y="19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6" y="6"/>
                          </a:lnTo>
                          <a:lnTo>
                            <a:pt x="6" y="6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559400" y="2360160"/>
                      <a:ext cx="316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7" y="0"/>
                          </a:move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3" y="0"/>
                          </a:lnTo>
                          <a:lnTo>
                            <a:pt x="19" y="0"/>
                          </a:lnTo>
                          <a:lnTo>
                            <a:pt x="19" y="0"/>
                          </a:lnTo>
                          <a:lnTo>
                            <a:pt x="19" y="6"/>
                          </a:lnTo>
                          <a:lnTo>
                            <a:pt x="19" y="6"/>
                          </a:lnTo>
                          <a:lnTo>
                            <a:pt x="19" y="6"/>
                          </a:lnTo>
                          <a:lnTo>
                            <a:pt x="19" y="12"/>
                          </a:lnTo>
                          <a:lnTo>
                            <a:pt x="19" y="12"/>
                          </a:lnTo>
                          <a:lnTo>
                            <a:pt x="13" y="12"/>
                          </a:lnTo>
                          <a:lnTo>
                            <a:pt x="13" y="19"/>
                          </a:lnTo>
                          <a:lnTo>
                            <a:pt x="13" y="19"/>
                          </a:lnTo>
                          <a:lnTo>
                            <a:pt x="13" y="19"/>
                          </a:lnTo>
                          <a:lnTo>
                            <a:pt x="7" y="19"/>
                          </a:lnTo>
                          <a:lnTo>
                            <a:pt x="7" y="19"/>
                          </a:lnTo>
                          <a:lnTo>
                            <a:pt x="7" y="19"/>
                          </a:lnTo>
                          <a:lnTo>
                            <a:pt x="0" y="19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7" y="6"/>
                          </a:lnTo>
                          <a:lnTo>
                            <a:pt x="7" y="6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4549680" y="2360160"/>
                    <a:ext cx="41760" cy="33840"/>
                    <a:chOff x="4549680" y="2360160"/>
                    <a:chExt cx="41760" cy="338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559400" y="2360160"/>
                      <a:ext cx="320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3" y="6"/>
                          </a:move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6"/>
                          </a:lnTo>
                          <a:lnTo>
                            <a:pt x="0" y="6"/>
                          </a:lnTo>
                          <a:lnTo>
                            <a:pt x="13" y="19"/>
                          </a:lnTo>
                          <a:lnTo>
                            <a:pt x="13" y="19"/>
                          </a:lnTo>
                          <a:lnTo>
                            <a:pt x="13" y="19"/>
                          </a:lnTo>
                          <a:lnTo>
                            <a:pt x="13" y="12"/>
                          </a:lnTo>
                          <a:lnTo>
                            <a:pt x="19" y="12"/>
                          </a:lnTo>
                          <a:lnTo>
                            <a:pt x="19" y="12"/>
                          </a:lnTo>
                          <a:lnTo>
                            <a:pt x="19" y="6"/>
                          </a:lnTo>
                          <a:lnTo>
                            <a:pt x="19" y="6"/>
                          </a:lnTo>
                          <a:lnTo>
                            <a:pt x="13" y="6"/>
                          </a:lnTo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549680" y="2360160"/>
                      <a:ext cx="32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2">
                          <a:moveTo>
                            <a:pt x="19" y="0"/>
                          </a:move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6"/>
                          </a:lnTo>
                          <a:lnTo>
                            <a:pt x="13" y="12"/>
                          </a:lnTo>
                          <a:lnTo>
                            <a:pt x="13" y="12"/>
                          </a:lnTo>
                          <a:lnTo>
                            <a:pt x="19" y="12"/>
                          </a:lnTo>
                          <a:lnTo>
                            <a:pt x="19" y="12"/>
                          </a:lnTo>
                          <a:lnTo>
                            <a:pt x="19" y="12"/>
                          </a:lnTo>
                          <a:lnTo>
                            <a:pt x="19" y="6"/>
                          </a:lnTo>
                          <a:lnTo>
                            <a:pt x="19" y="6"/>
                          </a:lnTo>
                          <a:lnTo>
                            <a:pt x="19" y="6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>
                    <a:off x="4581720" y="2370600"/>
                    <a:ext cx="21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3" y="0"/>
                        </a:move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13" y="6"/>
                        </a:lnTo>
                        <a:lnTo>
                          <a:pt x="13" y="13"/>
                        </a:lnTo>
                        <a:lnTo>
                          <a:pt x="13" y="13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581720" y="2370600"/>
                    <a:ext cx="21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3" y="0"/>
                        </a:move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6" y="6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5168160" y="1251000"/>
                <a:ext cx="1703880" cy="565920"/>
                <a:chOff x="5168160" y="1251000"/>
                <a:chExt cx="1703880" cy="5659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168160" y="1251000"/>
                  <a:ext cx="76320" cy="4500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13"/>
                      </a:lnTo>
                      <a:lnTo>
                        <a:pt x="38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796080" y="1769760"/>
                  <a:ext cx="75960" cy="471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45" y="26"/>
                      </a:moveTo>
                      <a:lnTo>
                        <a:pt x="0" y="26"/>
                      </a:lnTo>
                      <a:lnTo>
                        <a:pt x="0" y="13"/>
                      </a:lnTo>
                      <a:lnTo>
                        <a:pt x="7" y="0"/>
                      </a:lnTo>
                      <a:lnTo>
                        <a:pt x="45" y="2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44480" y="1274040"/>
                  <a:ext cx="155124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874400" y="1909800"/>
                <a:ext cx="1997640" cy="437400"/>
                <a:chOff x="4874400" y="1909800"/>
                <a:chExt cx="1997640" cy="437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874400" y="2302200"/>
                  <a:ext cx="76320" cy="4500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0" y="19"/>
                      </a:moveTo>
                      <a:lnTo>
                        <a:pt x="39" y="0"/>
                      </a:lnTo>
                      <a:lnTo>
                        <a:pt x="45" y="13"/>
                      </a:lnTo>
                      <a:lnTo>
                        <a:pt x="45" y="25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96080" y="1909800"/>
                  <a:ext cx="75960" cy="4500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45" y="6"/>
                      </a:moveTo>
                      <a:lnTo>
                        <a:pt x="7" y="2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45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950720" y="1931040"/>
                  <a:ext cx="1845000" cy="39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2041920" y="2914560"/>
                <a:ext cx="4852440" cy="2773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37040" y="3331080"/>
                <a:ext cx="1422000" cy="47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237040" y="3897720"/>
                <a:ext cx="142200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47480" y="4475160"/>
                <a:ext cx="1422000" cy="47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37040" y="5041800"/>
                <a:ext cx="142200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63640" y="3331080"/>
                <a:ext cx="1422000" cy="47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63640" y="3897720"/>
                <a:ext cx="142200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63640" y="4475160"/>
                <a:ext cx="1422000" cy="47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63640" y="5041800"/>
                <a:ext cx="142200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41280" y="4475160"/>
                <a:ext cx="1140120" cy="474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41280" y="5041800"/>
                <a:ext cx="114012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83000" y="3363480"/>
                <a:ext cx="870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/C Support &amp;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17200" y="352440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Eng Analysi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84360" y="397188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Attitude Det. &amp;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85520" y="4134960"/>
                <a:ext cx="65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ensor C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14800" y="4579920"/>
                <a:ext cx="107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Mission Planning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24240" y="4741200"/>
                <a:ext cx="82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&amp; Scheduling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34400" y="5101560"/>
                <a:ext cx="896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Command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64920" y="5269680"/>
                <a:ext cx="1048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Managemen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45880" y="3481560"/>
                <a:ext cx="843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Data Captur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11480" y="3971880"/>
                <a:ext cx="64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36960" y="413496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rocessing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7040" y="4579920"/>
                <a:ext cx="64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Comman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15000" y="474120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rocessing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93960" y="5188320"/>
                <a:ext cx="101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Communicat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42680" y="4592880"/>
                <a:ext cx="27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Ops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81400" y="4754160"/>
                <a:ext cx="622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imulato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21280" y="5112360"/>
                <a:ext cx="70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Operation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63760" y="5275440"/>
                <a:ext cx="59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Databas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66480" y="3015720"/>
                <a:ext cx="1409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0c0c"/>
                    </a:solidFill>
                    <a:latin typeface="Bookman Old Style"/>
                  </a:rPr>
                  <a:t>Off-Line Syste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0320" y="3015720"/>
                <a:ext cx="1387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0c0c"/>
                    </a:solidFill>
                    <a:latin typeface="Bookman Old Style"/>
                  </a:rPr>
                  <a:t>On-Line Syste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87560" y="5977800"/>
                <a:ext cx="1726200" cy="42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52080" y="610452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Flight S/W Maint Fa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67880" y="5722560"/>
                <a:ext cx="1583640" cy="59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89520" y="5883480"/>
                <a:ext cx="89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IPIs, Guest Observer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60200" y="4521960"/>
                <a:ext cx="1140120" cy="48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41440" y="46760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CX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7926120" y="4994640"/>
                <a:ext cx="41760" cy="727200"/>
                <a:chOff x="7926120" y="4994640"/>
                <a:chExt cx="41760" cy="7272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926120" y="5642280"/>
                  <a:ext cx="41760" cy="795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12" y="44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5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926120" y="4994640"/>
                  <a:ext cx="41760" cy="81360"/>
                </a:xfrm>
                <a:custGeom>
                  <a:avLst/>
                  <a:gdLst/>
                  <a:ahLst/>
                  <a:rect l="l" t="t" r="r" b="b"/>
                  <a:pathLst>
                    <a:path w="25" h="45">
                      <a:moveTo>
                        <a:pt x="12" y="0"/>
                      </a:moveTo>
                      <a:lnTo>
                        <a:pt x="25" y="45"/>
                      </a:lnTo>
                      <a:lnTo>
                        <a:pt x="12" y="45"/>
                      </a:lnTo>
                      <a:lnTo>
                        <a:pt x="0" y="4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7946280" y="5076000"/>
                  <a:ext cx="1440" cy="56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872400" y="4707000"/>
                <a:ext cx="487440" cy="44640"/>
                <a:chOff x="6872400" y="4707000"/>
                <a:chExt cx="487440" cy="446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872400" y="4707000"/>
                  <a:ext cx="75960" cy="44640"/>
                </a:xfrm>
                <a:custGeom>
                  <a:avLst/>
                  <a:gdLst/>
                  <a:ahLst/>
                  <a:rect l="l" t="t" r="r" b="b"/>
                  <a:pathLst>
                    <a:path w="45" h="25">
                      <a:moveTo>
                        <a:pt x="0" y="12"/>
                      </a:moveTo>
                      <a:lnTo>
                        <a:pt x="45" y="0"/>
                      </a:lnTo>
                      <a:lnTo>
                        <a:pt x="45" y="12"/>
                      </a:lnTo>
                      <a:lnTo>
                        <a:pt x="45" y="2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85320" y="470700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4" h="25">
                      <a:moveTo>
                        <a:pt x="44" y="12"/>
                      </a:moveTo>
                      <a:lnTo>
                        <a:pt x="0" y="2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44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948360" y="4728600"/>
                  <a:ext cx="336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7317360" y="379800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Observation Reques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60640" y="3961080"/>
                <a:ext cx="1149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Mission Schedul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23080" y="4122360"/>
                <a:ext cx="64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27800" y="5192280"/>
                <a:ext cx="143388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51200" y="5197320"/>
                <a:ext cx="1404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Proposed Observatio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43160" y="5358960"/>
                <a:ext cx="806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cience Dat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31520" y="6075720"/>
                <a:ext cx="82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S/W Chang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4520" y="2233800"/>
                <a:ext cx="58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28880" y="2360520"/>
                <a:ext cx="64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mmand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414040" y="2489040"/>
                <a:ext cx="898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SN Scheduling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08000" y="2616120"/>
                <a:ext cx="703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State Vector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36600" y="2320920"/>
                <a:ext cx="58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68200" y="2447640"/>
                <a:ext cx="64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mmand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66840" y="2320920"/>
                <a:ext cx="1311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Deep Space Network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6880" y="2391480"/>
                <a:ext cx="1311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man Old Style"/>
                  </a:rPr>
                  <a:t>Deep Space Network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40120" y="838080"/>
                <a:ext cx="79164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57760" y="843480"/>
                <a:ext cx="58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54880" y="972000"/>
                <a:ext cx="64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mmand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66040" y="1098720"/>
                <a:ext cx="70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(Via Shuttle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71880" y="1047960"/>
                <a:ext cx="58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Telemet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68640" y="1175040"/>
                <a:ext cx="64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mmands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27040" y="3010680"/>
                <a:ext cx="37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OC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3809880" y="762120"/>
              <a:ext cx="15112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733920" y="762120"/>
              <a:ext cx="178884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nd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1676520" y="1299960"/>
              <a:ext cx="336600" cy="47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handra X-ray Center Architecture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1" name="CXC_thread.xfig" descr=""/>
          <p:cNvPicPr/>
          <p:nvPr/>
        </p:nvPicPr>
        <p:blipFill>
          <a:blip r:embed="rId1"/>
          <a:stretch/>
        </p:blipFill>
        <p:spPr>
          <a:xfrm>
            <a:off x="990720" y="1173240"/>
            <a:ext cx="84232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C Pipeline Process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ed through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0 - De-commutates telemetry &amp; processes ancillary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- 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 - Source detection and derived source pr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 - Catalogs spanning multiple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System comprised of series of pipelines controlled through registry and Observation Status Tra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 defined by ASCII profile containing a list of tools and parameters specified at run-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 profile executed by Pipeline Contro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s and Controller are configurable 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execution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ing and converging of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stdpipe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6868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57160" y="6670800"/>
            <a:ext cx="87440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6858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cle 1 Observing Efficienc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v. 1 1999 - August 15, 200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066680" y="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ssion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40600" y="654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857160" y="6670800"/>
            <a:ext cx="87440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002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dra Arch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6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ra telemetry rate 32 KB/s results in ~120 Gby/yr  tele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from telemetry to processed products ~10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~650 Gby after 14 months with ~2:1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rate of ~500 Gb/yr or ~1 Tby/yr uncom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25 Gby/month retrieved; range of 6-60 G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952880" y="93348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952880" y="3600360"/>
            <a:ext cx="4892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Operational Processes: Exam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9448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adation in the ACIS energy resolution of front side chips detected as increase in Charge Transfer Inefficiency in September 1999. Backside chips (S1 and S3) unaffec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adation due to low energy protons (~100 keV) focussed by mirror during radiation belt pa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ted by moving ACIS out of focal plane during radiation belt pa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can be offset by reduced focal plane temperature and via ACIS flight software changes, e.g., “squeegee mode” under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operational impacts required systems approach to respond effici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and Respon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i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mission scheduling to ensure ACIS safed for belt passages &amp; added CTI measurements: efficiency 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craft software changes to protect Instruments in the event of spacecraft safing 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ACIS, ground operations and science processing 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observing program for optimal chip u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new calibration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alerts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monitoring data &amp; mod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omaly resulted in system-wide changes and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ystem case in ops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800600" y="1441440"/>
            <a:ext cx="51055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SNR-GAL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20120" cy="573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9219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ission and Observatory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handra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andra X-ray Center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ission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Operational Process Example - Reacting to Radiation Be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391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GREATOBS" descr=""/>
          <p:cNvPicPr/>
          <p:nvPr/>
        </p:nvPicPr>
        <p:blipFill>
          <a:blip r:embed="rId1"/>
          <a:stretch/>
        </p:blipFill>
        <p:spPr>
          <a:xfrm>
            <a:off x="990720" y="912960"/>
            <a:ext cx="8458200" cy="541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2520" y="4038480"/>
            <a:ext cx="990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ntique Olive"/>
              </a:rPr>
              <a:t>CHAND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066680"/>
            <a:ext cx="9601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July 23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S-93/ Inertial Upper Stage / Integral Propulsion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 km x 140,000 km, 28.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d Or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ifetime &gt; 5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m Focal Length Wolter -1 Mirror: 4 nested Mirror 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ange: 0.1-10 K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maging Focal Plane Science Instr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S (Advanced CCD Imaging Spectrome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RC (High Resolution Came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bjective Transmission Gratings for Dispersive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G (Low-Energy Transmission Grat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G (High-Energy Transmission Grat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dra Mission Sum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ission and Observatory Descrip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OPTICAL%20PATH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8458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dra Science Instrum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6591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CCD Imaging Spectrometer (AC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array with 16’x16’ field of vie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IS-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nergy grating readout arra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IS-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Resolution Camera (HR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channel plate imager with 31’x31’ field of vie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RC-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energy grating readout arra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RC-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Energy Transmission Grating Spectrometer (HET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grating pairs for medium and high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Energy Transmission Grating Spectrometer (LET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grating for low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010280" y="1066680"/>
            <a:ext cx="2882880" cy="4711680"/>
            <a:chOff x="7010280" y="1066680"/>
            <a:chExt cx="2882880" cy="4711680"/>
          </a:xfrm>
        </p:grpSpPr>
        <p:sp>
          <p:nvSpPr>
            <p:cNvPr id="56" name=""/>
            <p:cNvSpPr/>
            <p:nvPr/>
          </p:nvSpPr>
          <p:spPr>
            <a:xfrm>
              <a:off x="8451720" y="1143000"/>
              <a:ext cx="0" cy="463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10280" y="5562720"/>
              <a:ext cx="2882880" cy="215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8001000" y="4190760"/>
              <a:ext cx="901440" cy="901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53280" y="1066680"/>
              <a:ext cx="596880" cy="596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51720" y="1066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3280" y="13651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15200" y="1981080"/>
              <a:ext cx="22734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0840" y="19810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89960" y="19810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51720" y="19810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32960" y="19810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213840" y="19810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62840" y="1190520"/>
              <a:ext cx="95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S-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83480" y="2486160"/>
              <a:ext cx="95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S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53680" y="3781440"/>
              <a:ext cx="81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RC-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1680" y="5153040"/>
              <a:ext cx="90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RC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86200" y="1374840"/>
            <a:ext cx="6172200" cy="4873680"/>
          </a:xfrm>
          <a:prstGeom prst="rect">
            <a:avLst/>
          </a:prstGeom>
          <a:ln w="0">
            <a:noFill/>
          </a:ln>
        </p:spPr>
      </p:pic>
      <p:pic>
        <p:nvPicPr>
          <p:cNvPr id="73" name="hydroleak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5105520" cy="510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914400"/>
            <a:ext cx="4643280" cy="5257800"/>
          </a:xfrm>
          <a:prstGeom prst="rect">
            <a:avLst/>
          </a:prstGeom>
          <a:ln w="0">
            <a:noFill/>
          </a:ln>
        </p:spPr>
      </p:pic>
      <p:pic>
        <p:nvPicPr>
          <p:cNvPr id="75" name="TRACKERK" descr=""/>
          <p:cNvPicPr/>
          <p:nvPr/>
        </p:nvPicPr>
        <p:blipFill>
          <a:blip r:embed="rId4"/>
          <a:stretch/>
        </p:blipFill>
        <p:spPr>
          <a:xfrm>
            <a:off x="3886200" y="12952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dra Laun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320" y="762120"/>
            <a:ext cx="3638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nched on Space Shuttle Columbia 7/23/99 on the third att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uttle placed Chandra and IUS in 150 mile or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dra was the longest and heaviest payload launched on the Shut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 bay doors open 1.5 hours after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dra/IUS deployed  7.5 hours after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xo&amp;ius" descr=""/>
          <p:cNvPicPr/>
          <p:nvPr/>
        </p:nvPicPr>
        <p:blipFill>
          <a:blip r:embed="rId1"/>
          <a:stretch/>
        </p:blipFill>
        <p:spPr>
          <a:xfrm>
            <a:off x="4495680" y="1741320"/>
            <a:ext cx="5562720" cy="312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00600" y="1027080"/>
            <a:ext cx="5257800" cy="4916520"/>
          </a:xfrm>
          <a:prstGeom prst="rect">
            <a:avLst/>
          </a:prstGeom>
          <a:ln w="0">
            <a:noFill/>
          </a:ln>
        </p:spPr>
      </p:pic>
      <p:pic>
        <p:nvPicPr>
          <p:cNvPr id="80" name="TransferOrbit" descr=""/>
          <p:cNvPicPr/>
          <p:nvPr/>
        </p:nvPicPr>
        <p:blipFill>
          <a:blip r:embed="rId3"/>
          <a:stretch/>
        </p:blipFill>
        <p:spPr>
          <a:xfrm>
            <a:off x="4419720" y="1636560"/>
            <a:ext cx="5638680" cy="2638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dra Deployment and Orbi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rtial Upper Stage (IUS) boosted Chandra from shuttle orbit to transfer orbit. Two stage rocket with two 2 minute bur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dra separated from the IUS 9.5 hr into mission with orbit of 300km x 74,000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dra’s Integral Propulsion System fired 5 times over 15 days to reach final orbit: 10,000 km x 140,000 km. Orbit of 64 hrs and going 1/3 of way to m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handra Oper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3353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science plan converted to command loads and uplinked to Chand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events collected and stored on Solid-State Recorders (SS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contact established every ~8 hours throug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 Space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R data downlin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ommand load uplinked (up to 72 hours of stored command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r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JPL for science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86200" y="1295280"/>
            <a:ext cx="6019920" cy="4571640"/>
            <a:chOff x="3886200" y="1295280"/>
            <a:chExt cx="6019920" cy="4571640"/>
          </a:xfrm>
        </p:grpSpPr>
        <p:grpSp>
          <p:nvGrpSpPr>
            <p:cNvPr id="86" name=""/>
            <p:cNvGrpSpPr/>
            <p:nvPr/>
          </p:nvGrpSpPr>
          <p:grpSpPr>
            <a:xfrm>
              <a:off x="3886200" y="1295280"/>
              <a:ext cx="6019920" cy="4571640"/>
              <a:chOff x="3886200" y="1295280"/>
              <a:chExt cx="6019920" cy="4571640"/>
            </a:xfrm>
          </p:grpSpPr>
          <p:pic>
            <p:nvPicPr>
              <p:cNvPr id="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1295280"/>
                <a:ext cx="6019920" cy="45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 txBox="1"/>
              <p:nvPr/>
            </p:nvSpPr>
            <p:spPr>
              <a:xfrm>
                <a:off x="3886200" y="1295280"/>
                <a:ext cx="6019920" cy="45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rmAutofit/>
              </a:bodyPr>
              <a:p>
                <a:pPr marL="343080" indent="-343080">
                  <a:spcBef>
                    <a:spcPts val="601"/>
                  </a:spcBef>
                  <a:buClr>
                    <a:srgbClr val="ffff00"/>
                  </a:buClr>
                  <a:buSzPct val="75000"/>
                  <a:buFont typeface="Monotype Sort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8231760" y="3309120"/>
              <a:ext cx="61956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X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9960" y="4275720"/>
              <a:ext cx="630360" cy="58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X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C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96360" y="1697760"/>
              <a:ext cx="299700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sssssssssssssssssss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2:48:42Z</dcterms:created>
  <dc:creator>Patrick Slane</dc:creator>
  <dc:description>This power point presentation is geared for use as a computer presentation. Embedded objects and slide transitions are used to produce enhanced effects.</dc:description>
  <cp:keywords>AXAF X-ray Astronomy</cp:keywords>
  <dc:language>en-US</dc:language>
  <cp:lastModifiedBy>Lisa Portolese</cp:lastModifiedBy>
  <cp:lastPrinted>1999-11-03T19:26:22Z</cp:lastPrinted>
  <dcterms:modified xsi:type="dcterms:W3CDTF">2001-05-30T19:05:37Z</dcterms:modified>
  <cp:revision>106</cp:revision>
  <dc:subject>General AXAF Talk</dc:subject>
  <dc:title>X-Ray Astronom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sc.harvard.edu</vt:lpwstr>
  </property>
  <property fmtid="{D5CDD505-2E9C-101B-9397-08002B2CF9AE}" pid="9" name="LinkColor">
    <vt:r8>16711782</vt:r8>
  </property>
  <property fmtid="{D5CDD505-2E9C-101B-9397-08002B2CF9AE}" pid="10" name="MailAddress">
    <vt:lpwstr>rbrissenden@cfa.harvard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DESKTOP\REVIEWS</vt:lpwstr>
  </property>
  <property fmtid="{D5CDD505-2E9C-101B-9397-08002B2CF9AE}" pid="14" name="ScreenSize">
    <vt:r8>4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